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907588" cy="6858000"/>
  <p:notesSz cx="6707188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F645-7ADC-4BD3-B6A4-3B7CC762B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20574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5000" y="42069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F667-D517-4D90-9635-D1BE6E20E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000" y="20574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09600" y="20574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5000" y="42069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09600" y="42069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0E84-A146-4FA8-A0FF-C46BE5E34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000" y="20574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42240" y="20574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89120" y="20574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5000" y="42069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42240" y="42069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89120" y="42069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F6AE-8B8C-4712-A29A-8C0A2BB27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95000" y="20574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2784-D3FA-468C-B925-9A3330F0A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000" y="20574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8E92-A76B-434D-B294-0A0805761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000" y="20574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09600" y="20574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AEE3-4105-4816-903A-665D256B3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DE1E-3E86-4485-9D1F-6E5CDAE8B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8858-8F8A-4CF9-9758-8D02BD004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20574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9600" y="20574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000" y="42069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1C5D-41E5-4CFD-AC90-A09A5CBF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20574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9600" y="20574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09600" y="42069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4A27-CE70-484C-9C9D-45AE1D8A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20574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09600" y="20574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000" y="42069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905F-8BB0-4ACB-9951-EB42F8DF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20574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7DD36-941D-459A-910B-F8AAE71DBE3E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985880" y="6140520"/>
            <a:ext cx="131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Times New Roman"/>
              </a:rPr>
              <a:t>Joan Drenth 26 April 2001 </a:t>
            </a:r>
            <a:br>
              <a:rPr sz="800"/>
            </a:br>
            <a:r>
              <a:rPr b="0" sz="800" spc="-1" strike="noStrike">
                <a:solidFill>
                  <a:srgbClr val="000000"/>
                </a:solidFill>
                <a:latin typeface="Times New Roman"/>
              </a:rPr>
              <a:t>Seite </a:t>
            </a:r>
            <a:fld id="{BE0167AB-D9DC-4E87-9540-9550D176F28C}" type="slidenum">
              <a:rPr b="0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logo" descr=""/>
          <p:cNvPicPr/>
          <p:nvPr/>
        </p:nvPicPr>
        <p:blipFill>
          <a:blip r:embed="rId2"/>
          <a:stretch/>
        </p:blipFill>
        <p:spPr>
          <a:xfrm>
            <a:off x="6997680" y="6089760"/>
            <a:ext cx="774720" cy="2761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284480" y="624852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Zurück zum Inha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>
            <a:hlinkClick r:id="" action="ppaction://hlinkshowjump?jump=firstslide"/>
          </p:cNvPr>
          <p:cNvSpPr/>
          <p:nvPr/>
        </p:nvSpPr>
        <p:spPr>
          <a:xfrm>
            <a:off x="743040" y="6248520"/>
            <a:ext cx="544320" cy="339480"/>
          </a:xfrm>
          <a:custGeom>
            <a:avLst/>
            <a:gdLst>
              <a:gd name="textAreaLeft" fmla="*/ 21960 w 544320"/>
              <a:gd name="textAreaRight" fmla="*/ 522360 w 544320"/>
              <a:gd name="textAreaTop" fmla="*/ 21960 h 339480"/>
              <a:gd name="textAreaBottom" fmla="*/ 317520 h 339480"/>
            </a:gdLst>
            <a:ahLst/>
            <a:rect l="textAreaLeft" t="textAreaTop" r="textAreaRight" b="textAreaBottom"/>
            <a:pathLst>
              <a:path w="34619" h="21600">
                <a:moveTo>
                  <a:pt x="0" y="0"/>
                </a:moveTo>
                <a:lnTo>
                  <a:pt x="34619" y="0"/>
                </a:lnTo>
                <a:lnTo>
                  <a:pt x="34619" y="21600"/>
                </a:lnTo>
                <a:lnTo>
                  <a:pt x="0" y="21600"/>
                </a:lnTo>
                <a:close/>
              </a:path>
              <a:path fill="lightenLess" w="34619" h="21600">
                <a:moveTo>
                  <a:pt x="0" y="0"/>
                </a:moveTo>
                <a:lnTo>
                  <a:pt x="34619" y="0"/>
                </a:lnTo>
                <a:lnTo>
                  <a:pt x="33219" y="1400"/>
                </a:lnTo>
                <a:lnTo>
                  <a:pt x="1400" y="1400"/>
                </a:lnTo>
                <a:close/>
              </a:path>
              <a:path fill="darken" w="34619" h="21600">
                <a:moveTo>
                  <a:pt x="34619" y="0"/>
                </a:moveTo>
                <a:lnTo>
                  <a:pt x="34619" y="21600"/>
                </a:lnTo>
                <a:lnTo>
                  <a:pt x="33219" y="20200"/>
                </a:lnTo>
                <a:lnTo>
                  <a:pt x="33219" y="1400"/>
                </a:lnTo>
                <a:close/>
              </a:path>
              <a:path fill="darkenLess" w="34619" h="21600">
                <a:moveTo>
                  <a:pt x="346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219" y="20200"/>
                </a:lnTo>
                <a:close/>
              </a:path>
              <a:path fill="lighten" w="346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619" h="21600">
                <a:moveTo>
                  <a:pt x="13811" y="10800"/>
                </a:moveTo>
                <a:lnTo>
                  <a:pt x="24316" y="3794"/>
                </a:lnTo>
                <a:lnTo>
                  <a:pt x="24316" y="17806"/>
                </a:lnTo>
                <a:close/>
              </a:path>
              <a:path fill="darken" w="34619" h="21600">
                <a:moveTo>
                  <a:pt x="10303" y="3794"/>
                </a:moveTo>
                <a:lnTo>
                  <a:pt x="11966" y="3794"/>
                </a:lnTo>
                <a:lnTo>
                  <a:pt x="11966" y="17806"/>
                </a:lnTo>
                <a:lnTo>
                  <a:pt x="1030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3.xml"/><Relationship Id="rId3" Type="http://schemas.openxmlformats.org/officeDocument/2006/relationships/slide" Target="slide2.xml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MERA.WAV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Umbau einer Märklin C Weiche  für </a:t>
            </a:r>
            <a:br>
              <a:rPr sz="3200"/>
            </a:b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Rückmeldungen im 3-Leiter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1" action="ppaction://hlinksldjump"/>
          </p:cNvPr>
          <p:cNvSpPr/>
          <p:nvPr/>
        </p:nvSpPr>
        <p:spPr>
          <a:xfrm>
            <a:off x="3130560" y="3200400"/>
            <a:ext cx="412920" cy="304920"/>
          </a:xfrm>
          <a:custGeom>
            <a:avLst/>
            <a:gdLst>
              <a:gd name="textAreaLeft" fmla="*/ 19440 w 412920"/>
              <a:gd name="textAreaRight" fmla="*/ 393480 w 412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9242" h="21600">
                <a:moveTo>
                  <a:pt x="0" y="0"/>
                </a:moveTo>
                <a:lnTo>
                  <a:pt x="29242" y="0"/>
                </a:lnTo>
                <a:lnTo>
                  <a:pt x="29242" y="21600"/>
                </a:lnTo>
                <a:lnTo>
                  <a:pt x="0" y="21600"/>
                </a:lnTo>
                <a:close/>
              </a:path>
              <a:path fill="lightenLess" w="29242" h="21600">
                <a:moveTo>
                  <a:pt x="0" y="0"/>
                </a:moveTo>
                <a:lnTo>
                  <a:pt x="29242" y="0"/>
                </a:lnTo>
                <a:lnTo>
                  <a:pt x="27842" y="1400"/>
                </a:lnTo>
                <a:lnTo>
                  <a:pt x="1400" y="1400"/>
                </a:lnTo>
                <a:close/>
              </a:path>
              <a:path fill="darken" w="29242" h="21600">
                <a:moveTo>
                  <a:pt x="29242" y="0"/>
                </a:moveTo>
                <a:lnTo>
                  <a:pt x="29242" y="21600"/>
                </a:lnTo>
                <a:lnTo>
                  <a:pt x="27842" y="20200"/>
                </a:lnTo>
                <a:lnTo>
                  <a:pt x="27842" y="1400"/>
                </a:lnTo>
                <a:close/>
              </a:path>
              <a:path fill="darkenLess" w="29242" h="21600">
                <a:moveTo>
                  <a:pt x="292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42" y="20200"/>
                </a:lnTo>
                <a:close/>
              </a:path>
              <a:path fill="lighten" w="292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42" h="21600">
                <a:moveTo>
                  <a:pt x="7614" y="3794"/>
                </a:moveTo>
                <a:lnTo>
                  <a:pt x="21627" y="10800"/>
                </a:lnTo>
                <a:lnTo>
                  <a:pt x="761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666600" y="3200400"/>
            <a:ext cx="32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Beispiel: Fahrstrasse (Einfahrt nach rech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2" action="ppaction://hlinksldjump"/>
          </p:cNvPr>
          <p:cNvSpPr/>
          <p:nvPr/>
        </p:nvSpPr>
        <p:spPr>
          <a:xfrm>
            <a:off x="3130560" y="2743200"/>
            <a:ext cx="412920" cy="304920"/>
          </a:xfrm>
          <a:custGeom>
            <a:avLst/>
            <a:gdLst>
              <a:gd name="textAreaLeft" fmla="*/ 19440 w 412920"/>
              <a:gd name="textAreaRight" fmla="*/ 393480 w 412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9242" h="21600">
                <a:moveTo>
                  <a:pt x="0" y="0"/>
                </a:moveTo>
                <a:lnTo>
                  <a:pt x="29242" y="0"/>
                </a:lnTo>
                <a:lnTo>
                  <a:pt x="29242" y="21600"/>
                </a:lnTo>
                <a:lnTo>
                  <a:pt x="0" y="21600"/>
                </a:lnTo>
                <a:close/>
              </a:path>
              <a:path fill="lightenLess" w="29242" h="21600">
                <a:moveTo>
                  <a:pt x="0" y="0"/>
                </a:moveTo>
                <a:lnTo>
                  <a:pt x="29242" y="0"/>
                </a:lnTo>
                <a:lnTo>
                  <a:pt x="27842" y="1400"/>
                </a:lnTo>
                <a:lnTo>
                  <a:pt x="1400" y="1400"/>
                </a:lnTo>
                <a:close/>
              </a:path>
              <a:path fill="darken" w="29242" h="21600">
                <a:moveTo>
                  <a:pt x="29242" y="0"/>
                </a:moveTo>
                <a:lnTo>
                  <a:pt x="29242" y="21600"/>
                </a:lnTo>
                <a:lnTo>
                  <a:pt x="27842" y="20200"/>
                </a:lnTo>
                <a:lnTo>
                  <a:pt x="27842" y="1400"/>
                </a:lnTo>
                <a:close/>
              </a:path>
              <a:path fill="darkenLess" w="29242" h="21600">
                <a:moveTo>
                  <a:pt x="292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42" y="20200"/>
                </a:lnTo>
                <a:close/>
              </a:path>
              <a:path fill="lighten" w="292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42" h="21600">
                <a:moveTo>
                  <a:pt x="7614" y="3794"/>
                </a:moveTo>
                <a:lnTo>
                  <a:pt x="21627" y="10800"/>
                </a:lnTo>
                <a:lnTo>
                  <a:pt x="761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72000" y="2743200"/>
            <a:ext cx="184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Elektrische Anschlü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3" action="ppaction://hlinksldjump"/>
          </p:cNvPr>
          <p:cNvSpPr/>
          <p:nvPr/>
        </p:nvSpPr>
        <p:spPr>
          <a:xfrm>
            <a:off x="3130560" y="2286000"/>
            <a:ext cx="412920" cy="304920"/>
          </a:xfrm>
          <a:custGeom>
            <a:avLst/>
            <a:gdLst>
              <a:gd name="textAreaLeft" fmla="*/ 19440 w 412920"/>
              <a:gd name="textAreaRight" fmla="*/ 393480 w 412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9242" h="21600">
                <a:moveTo>
                  <a:pt x="0" y="0"/>
                </a:moveTo>
                <a:lnTo>
                  <a:pt x="29242" y="0"/>
                </a:lnTo>
                <a:lnTo>
                  <a:pt x="29242" y="21600"/>
                </a:lnTo>
                <a:lnTo>
                  <a:pt x="0" y="21600"/>
                </a:lnTo>
                <a:close/>
              </a:path>
              <a:path fill="lightenLess" w="29242" h="21600">
                <a:moveTo>
                  <a:pt x="0" y="0"/>
                </a:moveTo>
                <a:lnTo>
                  <a:pt x="29242" y="0"/>
                </a:lnTo>
                <a:lnTo>
                  <a:pt x="27842" y="1400"/>
                </a:lnTo>
                <a:lnTo>
                  <a:pt x="1400" y="1400"/>
                </a:lnTo>
                <a:close/>
              </a:path>
              <a:path fill="darken" w="29242" h="21600">
                <a:moveTo>
                  <a:pt x="29242" y="0"/>
                </a:moveTo>
                <a:lnTo>
                  <a:pt x="29242" y="21600"/>
                </a:lnTo>
                <a:lnTo>
                  <a:pt x="27842" y="20200"/>
                </a:lnTo>
                <a:lnTo>
                  <a:pt x="27842" y="1400"/>
                </a:lnTo>
                <a:close/>
              </a:path>
              <a:path fill="darkenLess" w="29242" h="21600">
                <a:moveTo>
                  <a:pt x="292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42" y="20200"/>
                </a:lnTo>
                <a:close/>
              </a:path>
              <a:path fill="lighten" w="292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42" h="21600">
                <a:moveTo>
                  <a:pt x="7614" y="3794"/>
                </a:moveTo>
                <a:lnTo>
                  <a:pt x="21627" y="10800"/>
                </a:lnTo>
                <a:lnTo>
                  <a:pt x="761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74160" y="2286000"/>
            <a:ext cx="175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Mechanischer Umba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360" y="6019920"/>
            <a:ext cx="28065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30560" y="4114800"/>
            <a:ext cx="412920" cy="304920"/>
          </a:xfrm>
          <a:custGeom>
            <a:avLst/>
            <a:gdLst>
              <a:gd name="textAreaLeft" fmla="*/ 19440 w 412920"/>
              <a:gd name="textAreaRight" fmla="*/ 393480 w 412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9242" h="21600">
                <a:moveTo>
                  <a:pt x="0" y="0"/>
                </a:moveTo>
                <a:lnTo>
                  <a:pt x="29242" y="0"/>
                </a:lnTo>
                <a:lnTo>
                  <a:pt x="29242" y="21600"/>
                </a:lnTo>
                <a:lnTo>
                  <a:pt x="0" y="21600"/>
                </a:lnTo>
                <a:close/>
              </a:path>
              <a:path fill="lightenLess" w="29242" h="21600">
                <a:moveTo>
                  <a:pt x="0" y="0"/>
                </a:moveTo>
                <a:lnTo>
                  <a:pt x="29242" y="0"/>
                </a:lnTo>
                <a:lnTo>
                  <a:pt x="27842" y="1400"/>
                </a:lnTo>
                <a:lnTo>
                  <a:pt x="1400" y="1400"/>
                </a:lnTo>
                <a:close/>
              </a:path>
              <a:path fill="darken" w="29242" h="21600">
                <a:moveTo>
                  <a:pt x="29242" y="0"/>
                </a:moveTo>
                <a:lnTo>
                  <a:pt x="29242" y="21600"/>
                </a:lnTo>
                <a:lnTo>
                  <a:pt x="27842" y="20200"/>
                </a:lnTo>
                <a:lnTo>
                  <a:pt x="27842" y="1400"/>
                </a:lnTo>
                <a:close/>
              </a:path>
              <a:path fill="darkenLess" w="29242" h="21600">
                <a:moveTo>
                  <a:pt x="292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42" y="20200"/>
                </a:lnTo>
                <a:close/>
              </a:path>
              <a:path fill="lighten" w="292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42" h="21600">
                <a:moveTo>
                  <a:pt x="7614" y="3794"/>
                </a:moveTo>
                <a:lnTo>
                  <a:pt x="21627" y="10800"/>
                </a:lnTo>
                <a:lnTo>
                  <a:pt x="761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71280" y="4114800"/>
            <a:ext cx="254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Verkabelung mit VSDM 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30560" y="3657600"/>
            <a:ext cx="412920" cy="304920"/>
          </a:xfrm>
          <a:custGeom>
            <a:avLst/>
            <a:gdLst>
              <a:gd name="textAreaLeft" fmla="*/ 19440 w 412920"/>
              <a:gd name="textAreaRight" fmla="*/ 393480 w 412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9242" h="21600">
                <a:moveTo>
                  <a:pt x="0" y="0"/>
                </a:moveTo>
                <a:lnTo>
                  <a:pt x="29242" y="0"/>
                </a:lnTo>
                <a:lnTo>
                  <a:pt x="29242" y="21600"/>
                </a:lnTo>
                <a:lnTo>
                  <a:pt x="0" y="21600"/>
                </a:lnTo>
                <a:close/>
              </a:path>
              <a:path fill="lightenLess" w="29242" h="21600">
                <a:moveTo>
                  <a:pt x="0" y="0"/>
                </a:moveTo>
                <a:lnTo>
                  <a:pt x="29242" y="0"/>
                </a:lnTo>
                <a:lnTo>
                  <a:pt x="27842" y="1400"/>
                </a:lnTo>
                <a:lnTo>
                  <a:pt x="1400" y="1400"/>
                </a:lnTo>
                <a:close/>
              </a:path>
              <a:path fill="darken" w="29242" h="21600">
                <a:moveTo>
                  <a:pt x="29242" y="0"/>
                </a:moveTo>
                <a:lnTo>
                  <a:pt x="29242" y="21600"/>
                </a:lnTo>
                <a:lnTo>
                  <a:pt x="27842" y="20200"/>
                </a:lnTo>
                <a:lnTo>
                  <a:pt x="27842" y="1400"/>
                </a:lnTo>
                <a:close/>
              </a:path>
              <a:path fill="darkenLess" w="29242" h="21600">
                <a:moveTo>
                  <a:pt x="292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42" y="20200"/>
                </a:lnTo>
                <a:close/>
              </a:path>
              <a:path fill="lighten" w="292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42" h="21600">
                <a:moveTo>
                  <a:pt x="7614" y="3794"/>
                </a:moveTo>
                <a:lnTo>
                  <a:pt x="21627" y="10800"/>
                </a:lnTo>
                <a:lnTo>
                  <a:pt x="761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66240" y="3657600"/>
            <a:ext cx="316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Beispiel: Fahrstrasse (Ausfahrt von link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30560" y="4572000"/>
            <a:ext cx="412920" cy="304920"/>
          </a:xfrm>
          <a:custGeom>
            <a:avLst/>
            <a:gdLst>
              <a:gd name="textAreaLeft" fmla="*/ 19440 w 412920"/>
              <a:gd name="textAreaRight" fmla="*/ 393480 w 412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9242" h="21600">
                <a:moveTo>
                  <a:pt x="0" y="0"/>
                </a:moveTo>
                <a:lnTo>
                  <a:pt x="29242" y="0"/>
                </a:lnTo>
                <a:lnTo>
                  <a:pt x="29242" y="21600"/>
                </a:lnTo>
                <a:lnTo>
                  <a:pt x="0" y="21600"/>
                </a:lnTo>
                <a:close/>
              </a:path>
              <a:path fill="lightenLess" w="29242" h="21600">
                <a:moveTo>
                  <a:pt x="0" y="0"/>
                </a:moveTo>
                <a:lnTo>
                  <a:pt x="29242" y="0"/>
                </a:lnTo>
                <a:lnTo>
                  <a:pt x="27842" y="1400"/>
                </a:lnTo>
                <a:lnTo>
                  <a:pt x="1400" y="1400"/>
                </a:lnTo>
                <a:close/>
              </a:path>
              <a:path fill="darken" w="29242" h="21600">
                <a:moveTo>
                  <a:pt x="29242" y="0"/>
                </a:moveTo>
                <a:lnTo>
                  <a:pt x="29242" y="21600"/>
                </a:lnTo>
                <a:lnTo>
                  <a:pt x="27842" y="20200"/>
                </a:lnTo>
                <a:lnTo>
                  <a:pt x="27842" y="1400"/>
                </a:lnTo>
                <a:close/>
              </a:path>
              <a:path fill="darkenLess" w="29242" h="21600">
                <a:moveTo>
                  <a:pt x="292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42" y="20200"/>
                </a:lnTo>
                <a:close/>
              </a:path>
              <a:path fill="lighten" w="292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42" h="21600">
                <a:moveTo>
                  <a:pt x="7614" y="3794"/>
                </a:moveTo>
                <a:lnTo>
                  <a:pt x="21627" y="10800"/>
                </a:lnTo>
                <a:lnTo>
                  <a:pt x="761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68040" y="4572000"/>
            <a:ext cx="298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Tipp: billige Weichenlaterne mit LE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/>
          <p:nvPr/>
        </p:nvSpPr>
        <p:spPr>
          <a:xfrm>
            <a:off x="1396440" y="387360"/>
            <a:ext cx="754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Einbindung in einer Fahrstrasse (B - D) - Ausfahrt von li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 flipH="1">
            <a:off x="5116680" y="3225960"/>
            <a:ext cx="8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7361640" y="3095640"/>
            <a:ext cx="1704600" cy="171360"/>
            <a:chOff x="7361640" y="3095640"/>
            <a:chExt cx="1704600" cy="171360"/>
          </a:xfrm>
        </p:grpSpPr>
        <p:sp>
          <p:nvSpPr>
            <p:cNvPr id="991" name=""/>
            <p:cNvSpPr/>
            <p:nvPr/>
          </p:nvSpPr>
          <p:spPr>
            <a:xfrm flipH="1">
              <a:off x="7361640" y="3095640"/>
              <a:ext cx="111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flipH="1">
              <a:off x="8976240" y="3267000"/>
              <a:ext cx="90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3" name=""/>
          <p:cNvGrpSpPr/>
          <p:nvPr/>
        </p:nvGrpSpPr>
        <p:grpSpPr>
          <a:xfrm>
            <a:off x="7259400" y="3069720"/>
            <a:ext cx="99720" cy="87480"/>
            <a:chOff x="7259400" y="3069720"/>
            <a:chExt cx="99720" cy="87480"/>
          </a:xfrm>
        </p:grpSpPr>
        <p:sp>
          <p:nvSpPr>
            <p:cNvPr id="994" name=""/>
            <p:cNvSpPr/>
            <p:nvPr/>
          </p:nvSpPr>
          <p:spPr>
            <a:xfrm flipH="1" flipV="1">
              <a:off x="7311960" y="3069720"/>
              <a:ext cx="720" cy="87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H="1">
              <a:off x="7283520" y="3094560"/>
              <a:ext cx="6084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H="1">
              <a:off x="7259400" y="3120120"/>
              <a:ext cx="9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7" name=""/>
          <p:cNvGrpSpPr/>
          <p:nvPr/>
        </p:nvGrpSpPr>
        <p:grpSpPr>
          <a:xfrm>
            <a:off x="7261200" y="3406320"/>
            <a:ext cx="100080" cy="87480"/>
            <a:chOff x="7261200" y="3406320"/>
            <a:chExt cx="100080" cy="87480"/>
          </a:xfrm>
        </p:grpSpPr>
        <p:sp>
          <p:nvSpPr>
            <p:cNvPr id="998" name=""/>
            <p:cNvSpPr/>
            <p:nvPr/>
          </p:nvSpPr>
          <p:spPr>
            <a:xfrm flipH="1" flipV="1">
              <a:off x="7314120" y="3406320"/>
              <a:ext cx="720" cy="87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 flipH="1">
              <a:off x="7285680" y="3431160"/>
              <a:ext cx="6120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H="1">
              <a:off x="7261200" y="3456720"/>
              <a:ext cx="1000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1" name=""/>
          <p:cNvSpPr/>
          <p:nvPr/>
        </p:nvSpPr>
        <p:spPr>
          <a:xfrm flipV="1">
            <a:off x="5511600" y="2583720"/>
            <a:ext cx="57600" cy="18180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H="1" flipV="1">
            <a:off x="5400720" y="2599920"/>
            <a:ext cx="131760" cy="4176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 flipH="1" flipV="1">
            <a:off x="7329600" y="3074760"/>
            <a:ext cx="1046160" cy="8244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 flipH="1" flipV="1">
            <a:off x="5379840" y="2534760"/>
            <a:ext cx="1944360" cy="53820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8375760" y="3157560"/>
            <a:ext cx="812160" cy="341280"/>
            <a:chOff x="8375760" y="3157560"/>
            <a:chExt cx="812160" cy="341280"/>
          </a:xfrm>
        </p:grpSpPr>
        <p:sp>
          <p:nvSpPr>
            <p:cNvPr id="1006" name=""/>
            <p:cNvSpPr/>
            <p:nvPr/>
          </p:nvSpPr>
          <p:spPr>
            <a:xfrm flipV="1">
              <a:off x="8375760" y="3157560"/>
              <a:ext cx="812160" cy="144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7" name=""/>
            <p:cNvGrpSpPr/>
            <p:nvPr/>
          </p:nvGrpSpPr>
          <p:grpSpPr>
            <a:xfrm>
              <a:off x="9028800" y="3157560"/>
              <a:ext cx="152640" cy="341280"/>
              <a:chOff x="9028800" y="3157560"/>
              <a:chExt cx="152640" cy="341280"/>
            </a:xfrm>
          </p:grpSpPr>
          <p:sp>
            <p:nvSpPr>
              <p:cNvPr id="1008" name=""/>
              <p:cNvSpPr/>
              <p:nvPr/>
            </p:nvSpPr>
            <p:spPr>
              <a:xfrm>
                <a:off x="9042840" y="3209760"/>
                <a:ext cx="137160" cy="0"/>
              </a:xfrm>
              <a:prstGeom prst="line">
                <a:avLst/>
              </a:prstGeom>
              <a:ln w="57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9028800" y="3157560"/>
                <a:ext cx="0" cy="106200"/>
              </a:xfrm>
              <a:prstGeom prst="line">
                <a:avLst/>
              </a:prstGeom>
              <a:ln w="7632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9028800" y="3294000"/>
                <a:ext cx="0" cy="204840"/>
              </a:xfrm>
              <a:prstGeom prst="line">
                <a:avLst/>
              </a:prstGeom>
              <a:ln w="7632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9044280" y="3435480"/>
                <a:ext cx="137160" cy="0"/>
              </a:xfrm>
              <a:prstGeom prst="line">
                <a:avLst/>
              </a:prstGeom>
              <a:ln w="572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2" name=""/>
          <p:cNvGrpSpPr/>
          <p:nvPr/>
        </p:nvGrpSpPr>
        <p:grpSpPr>
          <a:xfrm>
            <a:off x="5205240" y="3395520"/>
            <a:ext cx="3970080" cy="103320"/>
            <a:chOff x="5205240" y="3395520"/>
            <a:chExt cx="3970080" cy="103320"/>
          </a:xfrm>
        </p:grpSpPr>
        <p:sp>
          <p:nvSpPr>
            <p:cNvPr id="1013" name=""/>
            <p:cNvSpPr/>
            <p:nvPr/>
          </p:nvSpPr>
          <p:spPr>
            <a:xfrm>
              <a:off x="5206680" y="3497400"/>
              <a:ext cx="3968640" cy="144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H="1">
              <a:off x="5205240" y="3448080"/>
              <a:ext cx="137520" cy="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361480" y="3395520"/>
              <a:ext cx="0" cy="103320"/>
            </a:xfrm>
            <a:prstGeom prst="line">
              <a:avLst/>
            </a:prstGeom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6" name=""/>
          <p:cNvSpPr/>
          <p:nvPr/>
        </p:nvSpPr>
        <p:spPr>
          <a:xfrm flipH="1" flipV="1">
            <a:off x="6338520" y="3178080"/>
            <a:ext cx="136440" cy="6480"/>
          </a:xfrm>
          <a:prstGeom prst="line">
            <a:avLst/>
          </a:prstGeom>
          <a:ln w="19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H="1" flipV="1">
            <a:off x="6399000" y="3141360"/>
            <a:ext cx="82440" cy="4680"/>
          </a:xfrm>
          <a:prstGeom prst="line">
            <a:avLst/>
          </a:prstGeom>
          <a:ln w="19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H="1" flipV="1">
            <a:off x="5198760" y="3149640"/>
            <a:ext cx="988920" cy="144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475320" y="3151080"/>
            <a:ext cx="817560" cy="180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6473880" y="3186000"/>
            <a:ext cx="830160" cy="22536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H="1">
            <a:off x="6176520" y="3181320"/>
            <a:ext cx="174600" cy="1440"/>
          </a:xfrm>
          <a:prstGeom prst="line">
            <a:avLst/>
          </a:prstGeom>
          <a:ln w="19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H="1" flipV="1">
            <a:off x="6216120" y="3083040"/>
            <a:ext cx="189000" cy="56880"/>
          </a:xfrm>
          <a:prstGeom prst="line">
            <a:avLst/>
          </a:prstGeom>
          <a:ln w="19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V="1">
            <a:off x="5361120" y="3158640"/>
            <a:ext cx="0" cy="19692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H="1">
            <a:off x="5203440" y="3222720"/>
            <a:ext cx="136440" cy="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H="1" flipV="1">
            <a:off x="5336640" y="2790360"/>
            <a:ext cx="122760" cy="3888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920" bIns="-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H="1" flipV="1">
            <a:off x="5288040" y="2847600"/>
            <a:ext cx="915840" cy="26028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5465520" y="2788560"/>
            <a:ext cx="32400" cy="10296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H="1" flipV="1">
            <a:off x="5271840" y="2567160"/>
            <a:ext cx="129960" cy="4104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flipH="1" flipV="1">
            <a:off x="4370040" y="2587320"/>
            <a:ext cx="917640" cy="26028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flipH="1" flipV="1">
            <a:off x="4458960" y="2274480"/>
            <a:ext cx="917640" cy="26028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V="1">
            <a:off x="5206680" y="2499480"/>
            <a:ext cx="57600" cy="18180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V="1">
            <a:off x="5159160" y="2707560"/>
            <a:ext cx="32400" cy="10296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 flipH="1" flipV="1">
            <a:off x="5195880" y="2750760"/>
            <a:ext cx="131760" cy="4176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 flipH="1">
            <a:off x="9366840" y="30560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flipH="1">
            <a:off x="3976560" y="2155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 flipH="1">
            <a:off x="149040" y="22287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H="1">
            <a:off x="573840" y="30560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flipH="1" flipV="1">
            <a:off x="418680" y="2590560"/>
            <a:ext cx="916200" cy="26028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 flipH="1" flipV="1">
            <a:off x="507600" y="2277720"/>
            <a:ext cx="917640" cy="26028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0" name=""/>
          <p:cNvGrpSpPr/>
          <p:nvPr/>
        </p:nvGrpSpPr>
        <p:grpSpPr>
          <a:xfrm>
            <a:off x="3402360" y="3095640"/>
            <a:ext cx="1703160" cy="171360"/>
            <a:chOff x="3402360" y="3095640"/>
            <a:chExt cx="1703160" cy="171360"/>
          </a:xfrm>
        </p:grpSpPr>
        <p:sp>
          <p:nvSpPr>
            <p:cNvPr id="1041" name=""/>
            <p:cNvSpPr/>
            <p:nvPr/>
          </p:nvSpPr>
          <p:spPr>
            <a:xfrm flipH="1">
              <a:off x="3402360" y="3095640"/>
              <a:ext cx="111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 flipH="1">
              <a:off x="5015520" y="3267000"/>
              <a:ext cx="90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3" name=""/>
          <p:cNvSpPr/>
          <p:nvPr/>
        </p:nvSpPr>
        <p:spPr>
          <a:xfrm flipH="1" flipV="1">
            <a:off x="3351240" y="3069720"/>
            <a:ext cx="1440" cy="87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H="1">
            <a:off x="3323520" y="3095640"/>
            <a:ext cx="58680" cy="46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3298680" y="3121200"/>
            <a:ext cx="100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H="1" flipV="1">
            <a:off x="3354480" y="3404880"/>
            <a:ext cx="1440" cy="88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H="1">
            <a:off x="3325680" y="3430440"/>
            <a:ext cx="61920" cy="46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flipH="1">
            <a:off x="3300480" y="3456000"/>
            <a:ext cx="101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 flipV="1">
            <a:off x="1550880" y="2583720"/>
            <a:ext cx="57600" cy="18180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 flipH="1" flipV="1">
            <a:off x="1439640" y="2603160"/>
            <a:ext cx="131400" cy="4176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V="1">
            <a:off x="4387680" y="3147480"/>
            <a:ext cx="811440" cy="180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flipH="1" flipV="1">
            <a:off x="3368520" y="3074760"/>
            <a:ext cx="1046160" cy="8244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H="1" flipV="1">
            <a:off x="1418760" y="2534760"/>
            <a:ext cx="1946520" cy="53820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1246320" y="3497400"/>
            <a:ext cx="3968640" cy="14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H="1">
            <a:off x="1244160" y="3448080"/>
            <a:ext cx="136440" cy="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400040" y="3395520"/>
            <a:ext cx="0" cy="10332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flipH="1" flipV="1">
            <a:off x="2377800" y="3177720"/>
            <a:ext cx="136440" cy="468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H="1" flipV="1">
            <a:off x="2438280" y="3139920"/>
            <a:ext cx="82800" cy="504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H="1" flipV="1">
            <a:off x="1239480" y="3147480"/>
            <a:ext cx="987480" cy="180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2514600" y="3149640"/>
            <a:ext cx="817560" cy="144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2513160" y="3184560"/>
            <a:ext cx="831600" cy="22536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H="1">
            <a:off x="2215800" y="3181320"/>
            <a:ext cx="174600" cy="144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H="1" flipV="1">
            <a:off x="2255400" y="3083040"/>
            <a:ext cx="189000" cy="5544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V="1">
            <a:off x="1400040" y="3157200"/>
            <a:ext cx="0" cy="19836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H="1">
            <a:off x="1242720" y="3220920"/>
            <a:ext cx="136440" cy="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H="1" flipV="1">
            <a:off x="1368360" y="2792520"/>
            <a:ext cx="130320" cy="4104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 flipH="1" flipV="1">
            <a:off x="1327320" y="2847600"/>
            <a:ext cx="915840" cy="25884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 flipV="1">
            <a:off x="1504800" y="2788560"/>
            <a:ext cx="32400" cy="10296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5083200" y="3220920"/>
            <a:ext cx="136440" cy="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5067360" y="3157560"/>
            <a:ext cx="0" cy="10620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5067360" y="3294000"/>
            <a:ext cx="0" cy="20484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5072040" y="3448080"/>
            <a:ext cx="138240" cy="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 flipH="1" flipV="1">
            <a:off x="1319040" y="2570040"/>
            <a:ext cx="131400" cy="4176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 flipV="1">
            <a:off x="1255320" y="2502720"/>
            <a:ext cx="57600" cy="18180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V="1">
            <a:off x="1207800" y="2710800"/>
            <a:ext cx="32400" cy="10296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flipH="1" flipV="1">
            <a:off x="1244520" y="2754360"/>
            <a:ext cx="130320" cy="4104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H="1" flipV="1" rot="5400000">
            <a:off x="5666040" y="3808080"/>
            <a:ext cx="38160" cy="41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H="1" flipV="1" rot="5400000">
            <a:off x="5756040" y="3730680"/>
            <a:ext cx="36360" cy="41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H="1" flipV="1" rot="5400000">
            <a:off x="5754960" y="3877920"/>
            <a:ext cx="38160" cy="41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 flipH="1" flipV="1" rot="5400000">
            <a:off x="5623920" y="4026600"/>
            <a:ext cx="196560" cy="13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flipH="1" flipV="1">
            <a:off x="5657400" y="4057200"/>
            <a:ext cx="13356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5954760" y="2771640"/>
            <a:ext cx="0" cy="9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5954760" y="3587760"/>
            <a:ext cx="0" cy="1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 flipH="1" flipV="1">
            <a:off x="5516280" y="2647800"/>
            <a:ext cx="438120" cy="12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H="1" flipV="1" rot="5400000">
            <a:off x="1697400" y="3808080"/>
            <a:ext cx="38160" cy="41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H="1" flipV="1" rot="5400000">
            <a:off x="1787400" y="3730680"/>
            <a:ext cx="36360" cy="41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 flipH="1" flipV="1" rot="5400000">
            <a:off x="1786320" y="3877920"/>
            <a:ext cx="38160" cy="41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 flipH="1" flipV="1" rot="5400000">
            <a:off x="1653840" y="4026600"/>
            <a:ext cx="196560" cy="13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flipH="1" flipV="1">
            <a:off x="1687680" y="4057200"/>
            <a:ext cx="13464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1986120" y="2771640"/>
            <a:ext cx="0" cy="9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1986120" y="358776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 flipH="1" flipV="1">
            <a:off x="1546200" y="2647800"/>
            <a:ext cx="439920" cy="12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5769000" y="3762360"/>
            <a:ext cx="185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 flipH="1">
            <a:off x="1986120" y="4524480"/>
            <a:ext cx="396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1822320" y="3754440"/>
            <a:ext cx="16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1814400" y="3902040"/>
            <a:ext cx="10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1924200" y="3902040"/>
            <a:ext cx="0" cy="74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5796000" y="3902040"/>
            <a:ext cx="7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5870520" y="3902040"/>
            <a:ext cx="0" cy="74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flipH="1">
            <a:off x="1924200" y="4643280"/>
            <a:ext cx="394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7316640" y="3154320"/>
            <a:ext cx="957240" cy="428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7318440" y="3417840"/>
            <a:ext cx="966600" cy="7632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H="1" flipV="1">
            <a:off x="5706000" y="3849120"/>
            <a:ext cx="50760" cy="3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5724360" y="38545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5" name=""/>
          <p:cNvGrpSpPr/>
          <p:nvPr/>
        </p:nvGrpSpPr>
        <p:grpSpPr>
          <a:xfrm>
            <a:off x="8120160" y="3608280"/>
            <a:ext cx="293760" cy="182520"/>
            <a:chOff x="8120160" y="3608280"/>
            <a:chExt cx="293760" cy="182520"/>
          </a:xfrm>
        </p:grpSpPr>
        <p:grpSp>
          <p:nvGrpSpPr>
            <p:cNvPr id="1106" name=""/>
            <p:cNvGrpSpPr/>
            <p:nvPr/>
          </p:nvGrpSpPr>
          <p:grpSpPr>
            <a:xfrm>
              <a:off x="8226720" y="3608280"/>
              <a:ext cx="187200" cy="182520"/>
              <a:chOff x="8226720" y="3608280"/>
              <a:chExt cx="187200" cy="182520"/>
            </a:xfrm>
          </p:grpSpPr>
          <p:sp>
            <p:nvSpPr>
              <p:cNvPr id="1107" name=""/>
              <p:cNvSpPr/>
              <p:nvPr/>
            </p:nvSpPr>
            <p:spPr>
              <a:xfrm rot="5400000">
                <a:off x="8228880" y="3605760"/>
                <a:ext cx="182520" cy="18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08" name=""/>
              <p:cNvGrpSpPr/>
              <p:nvPr/>
            </p:nvGrpSpPr>
            <p:grpSpPr>
              <a:xfrm>
                <a:off x="8238960" y="3609360"/>
                <a:ext cx="161640" cy="180720"/>
                <a:chOff x="8238960" y="3609360"/>
                <a:chExt cx="161640" cy="180720"/>
              </a:xfrm>
            </p:grpSpPr>
            <p:sp>
              <p:nvSpPr>
                <p:cNvPr id="1109" name=""/>
                <p:cNvSpPr/>
                <p:nvPr/>
              </p:nvSpPr>
              <p:spPr>
                <a:xfrm rot="336000">
                  <a:off x="8247240" y="3611520"/>
                  <a:ext cx="56520" cy="17604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 flipH="1" rot="21264000">
                  <a:off x="8335440" y="3611520"/>
                  <a:ext cx="56520" cy="17604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11" name=""/>
            <p:cNvSpPr/>
            <p:nvPr/>
          </p:nvSpPr>
          <p:spPr>
            <a:xfrm flipH="1">
              <a:off x="8120160" y="3697200"/>
              <a:ext cx="108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2" name=""/>
          <p:cNvSpPr/>
          <p:nvPr/>
        </p:nvSpPr>
        <p:spPr>
          <a:xfrm>
            <a:off x="3349800" y="3416400"/>
            <a:ext cx="946080" cy="3816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3338640" y="3149640"/>
            <a:ext cx="971280" cy="468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4" name=""/>
          <p:cNvGrpSpPr/>
          <p:nvPr/>
        </p:nvGrpSpPr>
        <p:grpSpPr>
          <a:xfrm>
            <a:off x="4158720" y="3654360"/>
            <a:ext cx="285840" cy="76320"/>
            <a:chOff x="4158720" y="3654360"/>
            <a:chExt cx="285840" cy="76320"/>
          </a:xfrm>
        </p:grpSpPr>
        <p:sp>
          <p:nvSpPr>
            <p:cNvPr id="1115" name=""/>
            <p:cNvSpPr/>
            <p:nvPr/>
          </p:nvSpPr>
          <p:spPr>
            <a:xfrm>
              <a:off x="4267440" y="3654360"/>
              <a:ext cx="177120" cy="76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 flipH="1">
              <a:off x="4158720" y="3696480"/>
              <a:ext cx="108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7" name=""/>
          <p:cNvSpPr/>
          <p:nvPr/>
        </p:nvSpPr>
        <p:spPr>
          <a:xfrm flipH="1">
            <a:off x="1722600" y="3761640"/>
            <a:ext cx="71280" cy="79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747800" y="3797280"/>
            <a:ext cx="0" cy="20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H="1">
            <a:off x="6490800" y="3610080"/>
            <a:ext cx="115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Fahrtrich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 flipH="1">
            <a:off x="6468840" y="3914640"/>
            <a:ext cx="1106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1989000" y="3587760"/>
            <a:ext cx="0" cy="116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5959440" y="376236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3" name=""/>
          <p:cNvGrpSpPr/>
          <p:nvPr/>
        </p:nvGrpSpPr>
        <p:grpSpPr>
          <a:xfrm>
            <a:off x="1939320" y="4645080"/>
            <a:ext cx="1662840" cy="560880"/>
            <a:chOff x="1939320" y="4645080"/>
            <a:chExt cx="1662840" cy="560880"/>
          </a:xfrm>
        </p:grpSpPr>
        <p:sp>
          <p:nvSpPr>
            <p:cNvPr id="1124" name=""/>
            <p:cNvSpPr/>
            <p:nvPr/>
          </p:nvSpPr>
          <p:spPr>
            <a:xfrm>
              <a:off x="1939320" y="4898880"/>
              <a:ext cx="142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Zu Rückmeldu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1989360" y="4753080"/>
              <a:ext cx="4143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187800" y="4645080"/>
              <a:ext cx="4143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7" name=""/>
          <p:cNvSpPr/>
          <p:nvPr/>
        </p:nvSpPr>
        <p:spPr>
          <a:xfrm flipH="1">
            <a:off x="3772080" y="4753080"/>
            <a:ext cx="63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 flipH="1" rot="11757600">
            <a:off x="479160" y="2266560"/>
            <a:ext cx="102960" cy="745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H="1" rot="11757600">
            <a:off x="4408920" y="2274480"/>
            <a:ext cx="103320" cy="745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0" name=""/>
          <p:cNvGrpSpPr/>
          <p:nvPr/>
        </p:nvGrpSpPr>
        <p:grpSpPr>
          <a:xfrm>
            <a:off x="1574280" y="3184560"/>
            <a:ext cx="711720" cy="638280"/>
            <a:chOff x="1574280" y="3184560"/>
            <a:chExt cx="711720" cy="638280"/>
          </a:xfrm>
        </p:grpSpPr>
        <p:sp>
          <p:nvSpPr>
            <p:cNvPr id="1131" name=""/>
            <p:cNvSpPr/>
            <p:nvPr/>
          </p:nvSpPr>
          <p:spPr>
            <a:xfrm flipH="1">
              <a:off x="1574280" y="3822840"/>
              <a:ext cx="11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V="1">
              <a:off x="1574640" y="3355560"/>
              <a:ext cx="0" cy="46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1574640" y="3355920"/>
              <a:ext cx="71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V="1">
              <a:off x="2286000" y="3184560"/>
              <a:ext cx="0" cy="17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5" name=""/>
          <p:cNvGrpSpPr/>
          <p:nvPr/>
        </p:nvGrpSpPr>
        <p:grpSpPr>
          <a:xfrm>
            <a:off x="5544720" y="3186000"/>
            <a:ext cx="711720" cy="638280"/>
            <a:chOff x="5544720" y="3186000"/>
            <a:chExt cx="711720" cy="638280"/>
          </a:xfrm>
        </p:grpSpPr>
        <p:sp>
          <p:nvSpPr>
            <p:cNvPr id="1136" name=""/>
            <p:cNvSpPr/>
            <p:nvPr/>
          </p:nvSpPr>
          <p:spPr>
            <a:xfrm flipH="1">
              <a:off x="5544720" y="3824280"/>
              <a:ext cx="11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V="1">
              <a:off x="5545080" y="3357000"/>
              <a:ext cx="0" cy="46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545080" y="3357360"/>
              <a:ext cx="71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V="1">
              <a:off x="6256440" y="3186000"/>
              <a:ext cx="0" cy="17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0" name=""/>
          <p:cNvSpPr/>
          <p:nvPr/>
        </p:nvSpPr>
        <p:spPr>
          <a:xfrm>
            <a:off x="533520" y="2209680"/>
            <a:ext cx="942840" cy="276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 rot="969600">
            <a:off x="419400" y="204444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Profil mitneh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>
            <a:hlinkClick r:id="rId1" action="ppaction://hlinksldjump"/>
          </p:cNvPr>
          <p:cNvSpPr/>
          <p:nvPr/>
        </p:nvSpPr>
        <p:spPr>
          <a:xfrm>
            <a:off x="4172040" y="5510160"/>
            <a:ext cx="129960" cy="160560"/>
          </a:xfrm>
          <a:custGeom>
            <a:avLst/>
            <a:gdLst>
              <a:gd name="textAreaLeft" fmla="*/ 8280 w 129960"/>
              <a:gd name="textAreaRight" fmla="*/ 121680 w 129960"/>
              <a:gd name="textAreaTop" fmla="*/ 8280 h 160560"/>
              <a:gd name="textAreaBottom" fmla="*/ 152280 h 160560"/>
            </a:gdLst>
            <a:ahLst/>
            <a:rect l="textAreaLeft" t="textAreaTop" r="textAreaRight" b="textAreaBottom"/>
            <a:pathLst>
              <a:path w="21600" h="26672">
                <a:moveTo>
                  <a:pt x="0" y="0"/>
                </a:moveTo>
                <a:lnTo>
                  <a:pt x="21600" y="0"/>
                </a:lnTo>
                <a:lnTo>
                  <a:pt x="21600" y="26672"/>
                </a:lnTo>
                <a:lnTo>
                  <a:pt x="0" y="26672"/>
                </a:lnTo>
                <a:close/>
              </a:path>
              <a:path fill="lightenLess" w="21600" h="266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672">
                <a:moveTo>
                  <a:pt x="21600" y="0"/>
                </a:moveTo>
                <a:lnTo>
                  <a:pt x="21600" y="26672"/>
                </a:lnTo>
                <a:lnTo>
                  <a:pt x="20200" y="25272"/>
                </a:lnTo>
                <a:lnTo>
                  <a:pt x="20200" y="1400"/>
                </a:lnTo>
                <a:close/>
              </a:path>
              <a:path fill="darkenLess" w="21600" h="26672">
                <a:moveTo>
                  <a:pt x="21600" y="26672"/>
                </a:moveTo>
                <a:lnTo>
                  <a:pt x="0" y="26672"/>
                </a:lnTo>
                <a:lnTo>
                  <a:pt x="1400" y="25272"/>
                </a:lnTo>
                <a:lnTo>
                  <a:pt x="20200" y="25272"/>
                </a:lnTo>
                <a:close/>
              </a:path>
              <a:path fill="lighten" w="21600" h="26672">
                <a:moveTo>
                  <a:pt x="0" y="266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272"/>
                </a:lnTo>
                <a:close/>
              </a:path>
              <a:path fill="darken" w="21600" h="26672">
                <a:moveTo>
                  <a:pt x="3794" y="6329"/>
                </a:moveTo>
                <a:lnTo>
                  <a:pt x="17806" y="13336"/>
                </a:lnTo>
                <a:lnTo>
                  <a:pt x="3794" y="2034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172040" y="5749920"/>
            <a:ext cx="129960" cy="160200"/>
          </a:xfrm>
          <a:custGeom>
            <a:avLst/>
            <a:gdLst>
              <a:gd name="textAreaLeft" fmla="*/ 8280 w 129960"/>
              <a:gd name="textAreaRight" fmla="*/ 121680 w 129960"/>
              <a:gd name="textAreaTop" fmla="*/ 8280 h 160200"/>
              <a:gd name="textAreaBottom" fmla="*/ 151920 h 160200"/>
            </a:gdLst>
            <a:ahLst/>
            <a:rect l="textAreaLeft" t="textAreaTop" r="textAreaRight" b="textAreaBottom"/>
            <a:pathLst>
              <a:path w="21600" h="26612">
                <a:moveTo>
                  <a:pt x="0" y="0"/>
                </a:moveTo>
                <a:lnTo>
                  <a:pt x="21600" y="0"/>
                </a:lnTo>
                <a:lnTo>
                  <a:pt x="21600" y="26612"/>
                </a:lnTo>
                <a:lnTo>
                  <a:pt x="0" y="26612"/>
                </a:lnTo>
                <a:close/>
              </a:path>
              <a:path fill="lightenLess" w="21600" h="266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612">
                <a:moveTo>
                  <a:pt x="21600" y="0"/>
                </a:moveTo>
                <a:lnTo>
                  <a:pt x="21600" y="26612"/>
                </a:lnTo>
                <a:lnTo>
                  <a:pt x="20200" y="25212"/>
                </a:lnTo>
                <a:lnTo>
                  <a:pt x="20200" y="1400"/>
                </a:lnTo>
                <a:close/>
              </a:path>
              <a:path fill="darkenLess" w="21600" h="26612">
                <a:moveTo>
                  <a:pt x="21600" y="26612"/>
                </a:moveTo>
                <a:lnTo>
                  <a:pt x="0" y="26612"/>
                </a:lnTo>
                <a:lnTo>
                  <a:pt x="1400" y="25212"/>
                </a:lnTo>
                <a:lnTo>
                  <a:pt x="20200" y="25212"/>
                </a:lnTo>
                <a:close/>
              </a:path>
              <a:path fill="lighten" w="21600" h="26612">
                <a:moveTo>
                  <a:pt x="0" y="266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212"/>
                </a:lnTo>
                <a:close/>
              </a:path>
              <a:path fill="darken" w="21600" h="26612">
                <a:moveTo>
                  <a:pt x="3794" y="6300"/>
                </a:moveTo>
                <a:lnTo>
                  <a:pt x="17806" y="13306"/>
                </a:lnTo>
                <a:lnTo>
                  <a:pt x="3794" y="2031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172040" y="5991120"/>
            <a:ext cx="129960" cy="160560"/>
          </a:xfrm>
          <a:custGeom>
            <a:avLst/>
            <a:gdLst>
              <a:gd name="textAreaLeft" fmla="*/ 8280 w 129960"/>
              <a:gd name="textAreaRight" fmla="*/ 121680 w 129960"/>
              <a:gd name="textAreaTop" fmla="*/ 8280 h 160560"/>
              <a:gd name="textAreaBottom" fmla="*/ 152280 h 160560"/>
            </a:gdLst>
            <a:ahLst/>
            <a:rect l="textAreaLeft" t="textAreaTop" r="textAreaRight" b="textAreaBottom"/>
            <a:pathLst>
              <a:path w="21600" h="26672">
                <a:moveTo>
                  <a:pt x="0" y="0"/>
                </a:moveTo>
                <a:lnTo>
                  <a:pt x="21600" y="0"/>
                </a:lnTo>
                <a:lnTo>
                  <a:pt x="21600" y="26672"/>
                </a:lnTo>
                <a:lnTo>
                  <a:pt x="0" y="26672"/>
                </a:lnTo>
                <a:close/>
              </a:path>
              <a:path fill="lightenLess" w="21600" h="266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672">
                <a:moveTo>
                  <a:pt x="21600" y="0"/>
                </a:moveTo>
                <a:lnTo>
                  <a:pt x="21600" y="26672"/>
                </a:lnTo>
                <a:lnTo>
                  <a:pt x="20200" y="25272"/>
                </a:lnTo>
                <a:lnTo>
                  <a:pt x="20200" y="1400"/>
                </a:lnTo>
                <a:close/>
              </a:path>
              <a:path fill="darkenLess" w="21600" h="26672">
                <a:moveTo>
                  <a:pt x="21600" y="26672"/>
                </a:moveTo>
                <a:lnTo>
                  <a:pt x="0" y="26672"/>
                </a:lnTo>
                <a:lnTo>
                  <a:pt x="1400" y="25272"/>
                </a:lnTo>
                <a:lnTo>
                  <a:pt x="20200" y="25272"/>
                </a:lnTo>
                <a:close/>
              </a:path>
              <a:path fill="lighten" w="21600" h="26672">
                <a:moveTo>
                  <a:pt x="0" y="266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272"/>
                </a:lnTo>
                <a:close/>
              </a:path>
              <a:path fill="darken" w="21600" h="26672">
                <a:moveTo>
                  <a:pt x="3794" y="6329"/>
                </a:moveTo>
                <a:lnTo>
                  <a:pt x="17806" y="13336"/>
                </a:lnTo>
                <a:lnTo>
                  <a:pt x="3794" y="2034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365720" y="5410080"/>
            <a:ext cx="143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Fahrstrasse A - 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4365720" y="5665680"/>
            <a:ext cx="142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Fahrstrasse C - 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365720" y="5919840"/>
            <a:ext cx="142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Fahrstrasse B - 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"/>
          <p:cNvSpPr/>
          <p:nvPr/>
        </p:nvSpPr>
        <p:spPr>
          <a:xfrm>
            <a:off x="1396440" y="387360"/>
            <a:ext cx="754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Einbindung in einer Fahrstrasse (C - D) - Ausfahrt von li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 flipH="1">
            <a:off x="5116680" y="3225960"/>
            <a:ext cx="8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0" name=""/>
          <p:cNvGrpSpPr/>
          <p:nvPr/>
        </p:nvGrpSpPr>
        <p:grpSpPr>
          <a:xfrm>
            <a:off x="7361640" y="3095640"/>
            <a:ext cx="1704600" cy="171360"/>
            <a:chOff x="7361640" y="3095640"/>
            <a:chExt cx="1704600" cy="171360"/>
          </a:xfrm>
        </p:grpSpPr>
        <p:sp>
          <p:nvSpPr>
            <p:cNvPr id="1151" name=""/>
            <p:cNvSpPr/>
            <p:nvPr/>
          </p:nvSpPr>
          <p:spPr>
            <a:xfrm flipH="1">
              <a:off x="7361640" y="3095640"/>
              <a:ext cx="111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H="1">
              <a:off x="8976240" y="3267000"/>
              <a:ext cx="90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3" name=""/>
          <p:cNvGrpSpPr/>
          <p:nvPr/>
        </p:nvGrpSpPr>
        <p:grpSpPr>
          <a:xfrm>
            <a:off x="7259400" y="3069720"/>
            <a:ext cx="99720" cy="87480"/>
            <a:chOff x="7259400" y="3069720"/>
            <a:chExt cx="99720" cy="87480"/>
          </a:xfrm>
        </p:grpSpPr>
        <p:sp>
          <p:nvSpPr>
            <p:cNvPr id="1154" name=""/>
            <p:cNvSpPr/>
            <p:nvPr/>
          </p:nvSpPr>
          <p:spPr>
            <a:xfrm flipH="1" flipV="1">
              <a:off x="7311960" y="3069720"/>
              <a:ext cx="720" cy="87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H="1">
              <a:off x="7283520" y="3094560"/>
              <a:ext cx="6084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H="1">
              <a:off x="7259400" y="3120120"/>
              <a:ext cx="9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7" name=""/>
          <p:cNvGrpSpPr/>
          <p:nvPr/>
        </p:nvGrpSpPr>
        <p:grpSpPr>
          <a:xfrm>
            <a:off x="7261200" y="3406320"/>
            <a:ext cx="100080" cy="87480"/>
            <a:chOff x="7261200" y="3406320"/>
            <a:chExt cx="100080" cy="87480"/>
          </a:xfrm>
        </p:grpSpPr>
        <p:sp>
          <p:nvSpPr>
            <p:cNvPr id="1158" name=""/>
            <p:cNvSpPr/>
            <p:nvPr/>
          </p:nvSpPr>
          <p:spPr>
            <a:xfrm flipH="1" flipV="1">
              <a:off x="7314120" y="3406320"/>
              <a:ext cx="720" cy="87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H="1">
              <a:off x="7285680" y="3431160"/>
              <a:ext cx="6120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H="1">
              <a:off x="7261200" y="3456720"/>
              <a:ext cx="1000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1" name=""/>
          <p:cNvSpPr/>
          <p:nvPr/>
        </p:nvSpPr>
        <p:spPr>
          <a:xfrm flipV="1">
            <a:off x="5511600" y="2583720"/>
            <a:ext cx="57600" cy="18180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 flipH="1" flipV="1">
            <a:off x="5400720" y="2599920"/>
            <a:ext cx="131760" cy="4176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flipH="1" flipV="1">
            <a:off x="7329600" y="3074760"/>
            <a:ext cx="1046160" cy="8244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 flipH="1" flipV="1">
            <a:off x="5379840" y="2534760"/>
            <a:ext cx="1944360" cy="53820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5" name=""/>
          <p:cNvGrpSpPr/>
          <p:nvPr/>
        </p:nvGrpSpPr>
        <p:grpSpPr>
          <a:xfrm>
            <a:off x="8375760" y="3157560"/>
            <a:ext cx="812160" cy="341280"/>
            <a:chOff x="8375760" y="3157560"/>
            <a:chExt cx="812160" cy="341280"/>
          </a:xfrm>
        </p:grpSpPr>
        <p:sp>
          <p:nvSpPr>
            <p:cNvPr id="1166" name=""/>
            <p:cNvSpPr/>
            <p:nvPr/>
          </p:nvSpPr>
          <p:spPr>
            <a:xfrm flipV="1">
              <a:off x="8375760" y="3157560"/>
              <a:ext cx="812160" cy="144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7" name=""/>
            <p:cNvGrpSpPr/>
            <p:nvPr/>
          </p:nvGrpSpPr>
          <p:grpSpPr>
            <a:xfrm>
              <a:off x="9028800" y="3157560"/>
              <a:ext cx="152640" cy="341280"/>
              <a:chOff x="9028800" y="3157560"/>
              <a:chExt cx="152640" cy="341280"/>
            </a:xfrm>
          </p:grpSpPr>
          <p:sp>
            <p:nvSpPr>
              <p:cNvPr id="1168" name=""/>
              <p:cNvSpPr/>
              <p:nvPr/>
            </p:nvSpPr>
            <p:spPr>
              <a:xfrm>
                <a:off x="9042840" y="3209760"/>
                <a:ext cx="137160" cy="0"/>
              </a:xfrm>
              <a:prstGeom prst="line">
                <a:avLst/>
              </a:prstGeom>
              <a:ln w="57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9028800" y="3157560"/>
                <a:ext cx="0" cy="106200"/>
              </a:xfrm>
              <a:prstGeom prst="line">
                <a:avLst/>
              </a:prstGeom>
              <a:ln w="7632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9028800" y="3294000"/>
                <a:ext cx="0" cy="204840"/>
              </a:xfrm>
              <a:prstGeom prst="line">
                <a:avLst/>
              </a:prstGeom>
              <a:ln w="7632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9044280" y="3435480"/>
                <a:ext cx="137160" cy="0"/>
              </a:xfrm>
              <a:prstGeom prst="line">
                <a:avLst/>
              </a:prstGeom>
              <a:ln w="572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2" name=""/>
          <p:cNvGrpSpPr/>
          <p:nvPr/>
        </p:nvGrpSpPr>
        <p:grpSpPr>
          <a:xfrm>
            <a:off x="5205240" y="3395520"/>
            <a:ext cx="3970080" cy="103320"/>
            <a:chOff x="5205240" y="3395520"/>
            <a:chExt cx="3970080" cy="103320"/>
          </a:xfrm>
        </p:grpSpPr>
        <p:sp>
          <p:nvSpPr>
            <p:cNvPr id="1173" name=""/>
            <p:cNvSpPr/>
            <p:nvPr/>
          </p:nvSpPr>
          <p:spPr>
            <a:xfrm>
              <a:off x="5206680" y="3497400"/>
              <a:ext cx="3968640" cy="144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H="1">
              <a:off x="5205240" y="3448080"/>
              <a:ext cx="137520" cy="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361480" y="3395520"/>
              <a:ext cx="0" cy="103320"/>
            </a:xfrm>
            <a:prstGeom prst="line">
              <a:avLst/>
            </a:prstGeom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6" name=""/>
          <p:cNvSpPr/>
          <p:nvPr/>
        </p:nvSpPr>
        <p:spPr>
          <a:xfrm flipH="1" flipV="1">
            <a:off x="6338520" y="3178080"/>
            <a:ext cx="136440" cy="648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 flipH="1" flipV="1">
            <a:off x="6399000" y="3141360"/>
            <a:ext cx="82440" cy="468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 flipH="1" flipV="1">
            <a:off x="5198760" y="3149640"/>
            <a:ext cx="988920" cy="144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6475320" y="3151080"/>
            <a:ext cx="817560" cy="180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6473880" y="3186000"/>
            <a:ext cx="830160" cy="22536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6176520" y="3181320"/>
            <a:ext cx="174600" cy="144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 flipH="1" flipV="1">
            <a:off x="6216120" y="3083040"/>
            <a:ext cx="189000" cy="5688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V="1">
            <a:off x="5361120" y="3158640"/>
            <a:ext cx="0" cy="19692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 flipH="1">
            <a:off x="5203440" y="3222720"/>
            <a:ext cx="136440" cy="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 flipH="1" flipV="1">
            <a:off x="5336640" y="2790360"/>
            <a:ext cx="122760" cy="3888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920" bIns="-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flipH="1" flipV="1">
            <a:off x="5288040" y="2847600"/>
            <a:ext cx="915840" cy="26028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5465520" y="2788560"/>
            <a:ext cx="32400" cy="10296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7323120" y="3416400"/>
            <a:ext cx="946080" cy="3816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7313760" y="3149640"/>
            <a:ext cx="971280" cy="468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0" name=""/>
          <p:cNvGrpSpPr/>
          <p:nvPr/>
        </p:nvGrpSpPr>
        <p:grpSpPr>
          <a:xfrm>
            <a:off x="8134200" y="3654360"/>
            <a:ext cx="284400" cy="76320"/>
            <a:chOff x="8134200" y="3654360"/>
            <a:chExt cx="284400" cy="76320"/>
          </a:xfrm>
        </p:grpSpPr>
        <p:sp>
          <p:nvSpPr>
            <p:cNvPr id="1191" name=""/>
            <p:cNvSpPr/>
            <p:nvPr/>
          </p:nvSpPr>
          <p:spPr>
            <a:xfrm>
              <a:off x="8242200" y="3654360"/>
              <a:ext cx="176400" cy="76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 flipH="1">
              <a:off x="8134200" y="3696480"/>
              <a:ext cx="108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3" name=""/>
          <p:cNvSpPr/>
          <p:nvPr/>
        </p:nvSpPr>
        <p:spPr>
          <a:xfrm flipH="1" flipV="1">
            <a:off x="5271840" y="2567160"/>
            <a:ext cx="129960" cy="4104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flipH="1" flipV="1">
            <a:off x="4370040" y="2587320"/>
            <a:ext cx="917640" cy="26028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H="1" flipV="1">
            <a:off x="4460400" y="2274480"/>
            <a:ext cx="916200" cy="26028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 flipV="1">
            <a:off x="5206680" y="2499480"/>
            <a:ext cx="57600" cy="18180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 flipV="1">
            <a:off x="5159160" y="2707560"/>
            <a:ext cx="32400" cy="10296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 flipH="1" flipV="1">
            <a:off x="5195880" y="2750760"/>
            <a:ext cx="131760" cy="4176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 flipH="1">
            <a:off x="9366840" y="30560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 flipH="1">
            <a:off x="3976560" y="2155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 flipH="1">
            <a:off x="149040" y="22287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 flipH="1">
            <a:off x="573840" y="30560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flipH="1" flipV="1">
            <a:off x="418680" y="2590560"/>
            <a:ext cx="916200" cy="26028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 flipH="1" flipV="1">
            <a:off x="507600" y="2277720"/>
            <a:ext cx="917640" cy="26028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5" name=""/>
          <p:cNvGrpSpPr/>
          <p:nvPr/>
        </p:nvGrpSpPr>
        <p:grpSpPr>
          <a:xfrm>
            <a:off x="3402360" y="3095640"/>
            <a:ext cx="1703160" cy="171360"/>
            <a:chOff x="3402360" y="3095640"/>
            <a:chExt cx="1703160" cy="171360"/>
          </a:xfrm>
        </p:grpSpPr>
        <p:sp>
          <p:nvSpPr>
            <p:cNvPr id="1206" name=""/>
            <p:cNvSpPr/>
            <p:nvPr/>
          </p:nvSpPr>
          <p:spPr>
            <a:xfrm flipH="1">
              <a:off x="3402360" y="3095640"/>
              <a:ext cx="111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H="1">
              <a:off x="5015520" y="3267000"/>
              <a:ext cx="90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8" name=""/>
          <p:cNvSpPr/>
          <p:nvPr/>
        </p:nvSpPr>
        <p:spPr>
          <a:xfrm flipH="1" flipV="1">
            <a:off x="3351240" y="3069720"/>
            <a:ext cx="1440" cy="87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H="1">
            <a:off x="3323520" y="3095640"/>
            <a:ext cx="58680" cy="46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flipH="1">
            <a:off x="3298680" y="3121200"/>
            <a:ext cx="100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H="1" flipV="1">
            <a:off x="3354480" y="3404880"/>
            <a:ext cx="1440" cy="88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flipH="1">
            <a:off x="3325680" y="3430440"/>
            <a:ext cx="61920" cy="46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 flipH="1">
            <a:off x="3300480" y="3456000"/>
            <a:ext cx="101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 flipV="1">
            <a:off x="1550880" y="2583720"/>
            <a:ext cx="57600" cy="18180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flipH="1" flipV="1">
            <a:off x="1439640" y="2603160"/>
            <a:ext cx="131400" cy="4176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 flipV="1">
            <a:off x="4387680" y="3147480"/>
            <a:ext cx="811440" cy="180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 flipH="1" flipV="1">
            <a:off x="3368520" y="3074760"/>
            <a:ext cx="1046160" cy="8244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 flipH="1" flipV="1">
            <a:off x="1418760" y="2534760"/>
            <a:ext cx="1946520" cy="53820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1246320" y="3497400"/>
            <a:ext cx="3968640" cy="14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flipH="1">
            <a:off x="1244160" y="3448080"/>
            <a:ext cx="136440" cy="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1400040" y="3395520"/>
            <a:ext cx="0" cy="10332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3360600" y="3152880"/>
            <a:ext cx="959040" cy="428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H="1" flipV="1">
            <a:off x="2377800" y="3177720"/>
            <a:ext cx="136440" cy="4680"/>
          </a:xfrm>
          <a:prstGeom prst="line">
            <a:avLst/>
          </a:prstGeom>
          <a:ln w="19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flipH="1" flipV="1">
            <a:off x="2438280" y="3139920"/>
            <a:ext cx="82800" cy="5040"/>
          </a:xfrm>
          <a:prstGeom prst="line">
            <a:avLst/>
          </a:prstGeom>
          <a:ln w="19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flipH="1" flipV="1">
            <a:off x="1239480" y="3147480"/>
            <a:ext cx="987480" cy="180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2514600" y="3149640"/>
            <a:ext cx="817560" cy="14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2513160" y="3184560"/>
            <a:ext cx="831600" cy="22536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 flipH="1">
            <a:off x="2215800" y="3181320"/>
            <a:ext cx="174600" cy="1440"/>
          </a:xfrm>
          <a:prstGeom prst="line">
            <a:avLst/>
          </a:prstGeom>
          <a:ln w="19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H="1" flipV="1">
            <a:off x="2255400" y="3083040"/>
            <a:ext cx="189000" cy="55440"/>
          </a:xfrm>
          <a:prstGeom prst="line">
            <a:avLst/>
          </a:prstGeom>
          <a:ln w="19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 flipV="1">
            <a:off x="1400040" y="3157200"/>
            <a:ext cx="0" cy="19836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 flipH="1">
            <a:off x="1242720" y="3220920"/>
            <a:ext cx="136440" cy="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 flipH="1" flipV="1">
            <a:off x="1368360" y="2792520"/>
            <a:ext cx="130320" cy="4104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 flipH="1" flipV="1">
            <a:off x="1327320" y="2847600"/>
            <a:ext cx="915840" cy="25884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flipV="1">
            <a:off x="1504800" y="2788560"/>
            <a:ext cx="32400" cy="10296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362400" y="3416400"/>
            <a:ext cx="966600" cy="7596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6" name=""/>
          <p:cNvGrpSpPr/>
          <p:nvPr/>
        </p:nvGrpSpPr>
        <p:grpSpPr>
          <a:xfrm>
            <a:off x="4163760" y="3560760"/>
            <a:ext cx="298440" cy="182520"/>
            <a:chOff x="4163760" y="3560760"/>
            <a:chExt cx="298440" cy="182520"/>
          </a:xfrm>
        </p:grpSpPr>
        <p:grpSp>
          <p:nvGrpSpPr>
            <p:cNvPr id="1237" name=""/>
            <p:cNvGrpSpPr/>
            <p:nvPr/>
          </p:nvGrpSpPr>
          <p:grpSpPr>
            <a:xfrm>
              <a:off x="4275000" y="3560760"/>
              <a:ext cx="187200" cy="182520"/>
              <a:chOff x="4275000" y="3560760"/>
              <a:chExt cx="187200" cy="182520"/>
            </a:xfrm>
          </p:grpSpPr>
          <p:sp>
            <p:nvSpPr>
              <p:cNvPr id="1238" name=""/>
              <p:cNvSpPr/>
              <p:nvPr/>
            </p:nvSpPr>
            <p:spPr>
              <a:xfrm rot="5400000">
                <a:off x="4277160" y="3558240"/>
                <a:ext cx="182520" cy="18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39" name=""/>
              <p:cNvGrpSpPr/>
              <p:nvPr/>
            </p:nvGrpSpPr>
            <p:grpSpPr>
              <a:xfrm>
                <a:off x="4287240" y="3561840"/>
                <a:ext cx="161640" cy="180720"/>
                <a:chOff x="4287240" y="3561840"/>
                <a:chExt cx="161640" cy="180720"/>
              </a:xfrm>
            </p:grpSpPr>
            <p:sp>
              <p:nvSpPr>
                <p:cNvPr id="1240" name=""/>
                <p:cNvSpPr/>
                <p:nvPr/>
              </p:nvSpPr>
              <p:spPr>
                <a:xfrm rot="336000">
                  <a:off x="4295520" y="3564000"/>
                  <a:ext cx="56520" cy="17604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 flipH="1" rot="21264000">
                  <a:off x="4383720" y="3564000"/>
                  <a:ext cx="56520" cy="17604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42" name=""/>
            <p:cNvSpPr/>
            <p:nvPr/>
          </p:nvSpPr>
          <p:spPr>
            <a:xfrm flipH="1">
              <a:off x="4163760" y="3652920"/>
              <a:ext cx="1098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3" name=""/>
          <p:cNvSpPr/>
          <p:nvPr/>
        </p:nvSpPr>
        <p:spPr>
          <a:xfrm>
            <a:off x="5083200" y="3220920"/>
            <a:ext cx="136440" cy="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5067360" y="3157560"/>
            <a:ext cx="0" cy="10620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5067360" y="3294000"/>
            <a:ext cx="0" cy="20484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5072040" y="3448080"/>
            <a:ext cx="138240" cy="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H="1" flipV="1">
            <a:off x="1319040" y="2570040"/>
            <a:ext cx="131400" cy="4176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 flipV="1">
            <a:off x="1255320" y="2502720"/>
            <a:ext cx="57600" cy="18180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 flipV="1">
            <a:off x="1207800" y="2710800"/>
            <a:ext cx="32400" cy="10296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 flipH="1" flipV="1">
            <a:off x="1244520" y="2754360"/>
            <a:ext cx="130320" cy="4104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 flipH="1" flipV="1" rot="5400000">
            <a:off x="5666040" y="3808080"/>
            <a:ext cx="38160" cy="41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 flipH="1" flipV="1" rot="5400000">
            <a:off x="5756040" y="3730680"/>
            <a:ext cx="36360" cy="41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 flipH="1" flipV="1" rot="5400000">
            <a:off x="5754960" y="3877920"/>
            <a:ext cx="38160" cy="41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 flipH="1">
            <a:off x="5697000" y="3761640"/>
            <a:ext cx="71640" cy="79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flipH="1" flipV="1" rot="5400000">
            <a:off x="5623920" y="4026600"/>
            <a:ext cx="196560" cy="13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 flipH="1" flipV="1">
            <a:off x="5657400" y="4057200"/>
            <a:ext cx="13356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5954760" y="2771640"/>
            <a:ext cx="0" cy="9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5954760" y="3587760"/>
            <a:ext cx="0" cy="1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5722920" y="3797280"/>
            <a:ext cx="0" cy="20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 flipH="1" flipV="1">
            <a:off x="5516280" y="2647800"/>
            <a:ext cx="438120" cy="12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 flipH="1" flipV="1" rot="5400000">
            <a:off x="1697400" y="3808080"/>
            <a:ext cx="38160" cy="41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 flipH="1" flipV="1" rot="5400000">
            <a:off x="1787400" y="3730680"/>
            <a:ext cx="36360" cy="41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flipH="1" flipV="1" rot="5400000">
            <a:off x="1786320" y="3877920"/>
            <a:ext cx="38160" cy="41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 flipH="1" flipV="1">
            <a:off x="1725840" y="3843360"/>
            <a:ext cx="70200" cy="43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 flipH="1" flipV="1" rot="5400000">
            <a:off x="1653840" y="4026600"/>
            <a:ext cx="196560" cy="13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H="1" flipV="1">
            <a:off x="1687680" y="4057200"/>
            <a:ext cx="13464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 flipH="1">
            <a:off x="1493640" y="3827520"/>
            <a:ext cx="22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1492200" y="3225960"/>
            <a:ext cx="0" cy="59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986120" y="2771640"/>
            <a:ext cx="0" cy="9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1752480" y="3848040"/>
            <a:ext cx="0" cy="15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 flipH="1">
            <a:off x="1358640" y="3225960"/>
            <a:ext cx="13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H="1" flipV="1">
            <a:off x="1546200" y="2647800"/>
            <a:ext cx="439920" cy="12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5769000" y="3762360"/>
            <a:ext cx="185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H="1">
            <a:off x="1986120" y="4524480"/>
            <a:ext cx="396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822320" y="3754440"/>
            <a:ext cx="16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1814400" y="3902040"/>
            <a:ext cx="10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1924200" y="3902040"/>
            <a:ext cx="0" cy="74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5796000" y="3902040"/>
            <a:ext cx="7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5870520" y="3902040"/>
            <a:ext cx="0" cy="74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 flipH="1">
            <a:off x="1924200" y="4643280"/>
            <a:ext cx="394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 flipH="1">
            <a:off x="6490800" y="3610080"/>
            <a:ext cx="115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Fahrtrich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 flipH="1">
            <a:off x="6468840" y="3914640"/>
            <a:ext cx="1106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1989000" y="3587760"/>
            <a:ext cx="0" cy="116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4" name=""/>
          <p:cNvGrpSpPr/>
          <p:nvPr/>
        </p:nvGrpSpPr>
        <p:grpSpPr>
          <a:xfrm>
            <a:off x="1939320" y="4645080"/>
            <a:ext cx="1662840" cy="560880"/>
            <a:chOff x="1939320" y="4645080"/>
            <a:chExt cx="1662840" cy="560880"/>
          </a:xfrm>
        </p:grpSpPr>
        <p:sp>
          <p:nvSpPr>
            <p:cNvPr id="1285" name=""/>
            <p:cNvSpPr/>
            <p:nvPr/>
          </p:nvSpPr>
          <p:spPr>
            <a:xfrm>
              <a:off x="1939320" y="4898880"/>
              <a:ext cx="142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Zu Rückmeldu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1989360" y="4753080"/>
              <a:ext cx="4143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187800" y="4645080"/>
              <a:ext cx="4143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8" name=""/>
          <p:cNvSpPr/>
          <p:nvPr/>
        </p:nvSpPr>
        <p:spPr>
          <a:xfrm flipH="1">
            <a:off x="3772080" y="4753080"/>
            <a:ext cx="63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5959440" y="376236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 flipH="1" rot="11757600">
            <a:off x="479160" y="2266560"/>
            <a:ext cx="102960" cy="745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 flipH="1" rot="11757600">
            <a:off x="4408920" y="2274480"/>
            <a:ext cx="103320" cy="745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2" name=""/>
          <p:cNvGrpSpPr/>
          <p:nvPr/>
        </p:nvGrpSpPr>
        <p:grpSpPr>
          <a:xfrm>
            <a:off x="1574280" y="3184560"/>
            <a:ext cx="711720" cy="638280"/>
            <a:chOff x="1574280" y="3184560"/>
            <a:chExt cx="711720" cy="638280"/>
          </a:xfrm>
        </p:grpSpPr>
        <p:sp>
          <p:nvSpPr>
            <p:cNvPr id="1293" name=""/>
            <p:cNvSpPr/>
            <p:nvPr/>
          </p:nvSpPr>
          <p:spPr>
            <a:xfrm flipH="1">
              <a:off x="1574280" y="3822840"/>
              <a:ext cx="11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V="1">
              <a:off x="1574640" y="3355560"/>
              <a:ext cx="0" cy="46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1574640" y="3355920"/>
              <a:ext cx="71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 flipV="1">
              <a:off x="2286000" y="3184560"/>
              <a:ext cx="0" cy="17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7" name=""/>
          <p:cNvGrpSpPr/>
          <p:nvPr/>
        </p:nvGrpSpPr>
        <p:grpSpPr>
          <a:xfrm>
            <a:off x="5544720" y="3186000"/>
            <a:ext cx="711720" cy="638280"/>
            <a:chOff x="5544720" y="3186000"/>
            <a:chExt cx="711720" cy="638280"/>
          </a:xfrm>
        </p:grpSpPr>
        <p:sp>
          <p:nvSpPr>
            <p:cNvPr id="1298" name=""/>
            <p:cNvSpPr/>
            <p:nvPr/>
          </p:nvSpPr>
          <p:spPr>
            <a:xfrm flipH="1">
              <a:off x="5544720" y="3824280"/>
              <a:ext cx="11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 flipV="1">
              <a:off x="5545080" y="3357000"/>
              <a:ext cx="0" cy="46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545080" y="3357360"/>
              <a:ext cx="71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 flipV="1">
              <a:off x="6256440" y="3186000"/>
              <a:ext cx="0" cy="17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2" name=""/>
          <p:cNvSpPr/>
          <p:nvPr/>
        </p:nvSpPr>
        <p:spPr>
          <a:xfrm>
            <a:off x="533520" y="2209680"/>
            <a:ext cx="942840" cy="276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 rot="969600">
            <a:off x="419400" y="204444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Profil mitneh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4172040" y="5510160"/>
            <a:ext cx="129960" cy="160560"/>
          </a:xfrm>
          <a:custGeom>
            <a:avLst/>
            <a:gdLst>
              <a:gd name="textAreaLeft" fmla="*/ 8280 w 129960"/>
              <a:gd name="textAreaRight" fmla="*/ 121680 w 129960"/>
              <a:gd name="textAreaTop" fmla="*/ 8280 h 160560"/>
              <a:gd name="textAreaBottom" fmla="*/ 152280 h 160560"/>
            </a:gdLst>
            <a:ahLst/>
            <a:rect l="textAreaLeft" t="textAreaTop" r="textAreaRight" b="textAreaBottom"/>
            <a:pathLst>
              <a:path w="21600" h="26672">
                <a:moveTo>
                  <a:pt x="0" y="0"/>
                </a:moveTo>
                <a:lnTo>
                  <a:pt x="21600" y="0"/>
                </a:lnTo>
                <a:lnTo>
                  <a:pt x="21600" y="26672"/>
                </a:lnTo>
                <a:lnTo>
                  <a:pt x="0" y="26672"/>
                </a:lnTo>
                <a:close/>
              </a:path>
              <a:path fill="lightenLess" w="21600" h="266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672">
                <a:moveTo>
                  <a:pt x="21600" y="0"/>
                </a:moveTo>
                <a:lnTo>
                  <a:pt x="21600" y="26672"/>
                </a:lnTo>
                <a:lnTo>
                  <a:pt x="20200" y="25272"/>
                </a:lnTo>
                <a:lnTo>
                  <a:pt x="20200" y="1400"/>
                </a:lnTo>
                <a:close/>
              </a:path>
              <a:path fill="darkenLess" w="21600" h="26672">
                <a:moveTo>
                  <a:pt x="21600" y="26672"/>
                </a:moveTo>
                <a:lnTo>
                  <a:pt x="0" y="26672"/>
                </a:lnTo>
                <a:lnTo>
                  <a:pt x="1400" y="25272"/>
                </a:lnTo>
                <a:lnTo>
                  <a:pt x="20200" y="25272"/>
                </a:lnTo>
                <a:close/>
              </a:path>
              <a:path fill="lighten" w="21600" h="26672">
                <a:moveTo>
                  <a:pt x="0" y="266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272"/>
                </a:lnTo>
                <a:close/>
              </a:path>
              <a:path fill="darken" w="21600" h="26672">
                <a:moveTo>
                  <a:pt x="3794" y="6329"/>
                </a:moveTo>
                <a:lnTo>
                  <a:pt x="17806" y="13336"/>
                </a:lnTo>
                <a:lnTo>
                  <a:pt x="3794" y="2034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4172040" y="5749920"/>
            <a:ext cx="129960" cy="160200"/>
          </a:xfrm>
          <a:custGeom>
            <a:avLst/>
            <a:gdLst>
              <a:gd name="textAreaLeft" fmla="*/ 8280 w 129960"/>
              <a:gd name="textAreaRight" fmla="*/ 121680 w 129960"/>
              <a:gd name="textAreaTop" fmla="*/ 8280 h 160200"/>
              <a:gd name="textAreaBottom" fmla="*/ 151920 h 160200"/>
            </a:gdLst>
            <a:ahLst/>
            <a:rect l="textAreaLeft" t="textAreaTop" r="textAreaRight" b="textAreaBottom"/>
            <a:pathLst>
              <a:path w="21600" h="26612">
                <a:moveTo>
                  <a:pt x="0" y="0"/>
                </a:moveTo>
                <a:lnTo>
                  <a:pt x="21600" y="0"/>
                </a:lnTo>
                <a:lnTo>
                  <a:pt x="21600" y="26612"/>
                </a:lnTo>
                <a:lnTo>
                  <a:pt x="0" y="26612"/>
                </a:lnTo>
                <a:close/>
              </a:path>
              <a:path fill="lightenLess" w="21600" h="266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612">
                <a:moveTo>
                  <a:pt x="21600" y="0"/>
                </a:moveTo>
                <a:lnTo>
                  <a:pt x="21600" y="26612"/>
                </a:lnTo>
                <a:lnTo>
                  <a:pt x="20200" y="25212"/>
                </a:lnTo>
                <a:lnTo>
                  <a:pt x="20200" y="1400"/>
                </a:lnTo>
                <a:close/>
              </a:path>
              <a:path fill="darkenLess" w="21600" h="26612">
                <a:moveTo>
                  <a:pt x="21600" y="26612"/>
                </a:moveTo>
                <a:lnTo>
                  <a:pt x="0" y="26612"/>
                </a:lnTo>
                <a:lnTo>
                  <a:pt x="1400" y="25212"/>
                </a:lnTo>
                <a:lnTo>
                  <a:pt x="20200" y="25212"/>
                </a:lnTo>
                <a:close/>
              </a:path>
              <a:path fill="lighten" w="21600" h="26612">
                <a:moveTo>
                  <a:pt x="0" y="266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212"/>
                </a:lnTo>
                <a:close/>
              </a:path>
              <a:path fill="darken" w="21600" h="26612">
                <a:moveTo>
                  <a:pt x="3794" y="6300"/>
                </a:moveTo>
                <a:lnTo>
                  <a:pt x="17806" y="13306"/>
                </a:lnTo>
                <a:lnTo>
                  <a:pt x="3794" y="2031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4172040" y="5991120"/>
            <a:ext cx="129960" cy="160560"/>
          </a:xfrm>
          <a:custGeom>
            <a:avLst/>
            <a:gdLst>
              <a:gd name="textAreaLeft" fmla="*/ 8280 w 129960"/>
              <a:gd name="textAreaRight" fmla="*/ 121680 w 129960"/>
              <a:gd name="textAreaTop" fmla="*/ 8280 h 160560"/>
              <a:gd name="textAreaBottom" fmla="*/ 152280 h 160560"/>
            </a:gdLst>
            <a:ahLst/>
            <a:rect l="textAreaLeft" t="textAreaTop" r="textAreaRight" b="textAreaBottom"/>
            <a:pathLst>
              <a:path w="21600" h="26672">
                <a:moveTo>
                  <a:pt x="0" y="0"/>
                </a:moveTo>
                <a:lnTo>
                  <a:pt x="21600" y="0"/>
                </a:lnTo>
                <a:lnTo>
                  <a:pt x="21600" y="26672"/>
                </a:lnTo>
                <a:lnTo>
                  <a:pt x="0" y="26672"/>
                </a:lnTo>
                <a:close/>
              </a:path>
              <a:path fill="lightenLess" w="21600" h="266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672">
                <a:moveTo>
                  <a:pt x="21600" y="0"/>
                </a:moveTo>
                <a:lnTo>
                  <a:pt x="21600" y="26672"/>
                </a:lnTo>
                <a:lnTo>
                  <a:pt x="20200" y="25272"/>
                </a:lnTo>
                <a:lnTo>
                  <a:pt x="20200" y="1400"/>
                </a:lnTo>
                <a:close/>
              </a:path>
              <a:path fill="darkenLess" w="21600" h="26672">
                <a:moveTo>
                  <a:pt x="21600" y="26672"/>
                </a:moveTo>
                <a:lnTo>
                  <a:pt x="0" y="26672"/>
                </a:lnTo>
                <a:lnTo>
                  <a:pt x="1400" y="25272"/>
                </a:lnTo>
                <a:lnTo>
                  <a:pt x="20200" y="25272"/>
                </a:lnTo>
                <a:close/>
              </a:path>
              <a:path fill="lighten" w="21600" h="26672">
                <a:moveTo>
                  <a:pt x="0" y="266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272"/>
                </a:lnTo>
                <a:close/>
              </a:path>
              <a:path fill="darken" w="21600" h="26672">
                <a:moveTo>
                  <a:pt x="3794" y="6329"/>
                </a:moveTo>
                <a:lnTo>
                  <a:pt x="17806" y="13336"/>
                </a:lnTo>
                <a:lnTo>
                  <a:pt x="3794" y="2034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4365720" y="5410080"/>
            <a:ext cx="143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Fahrstrasse A - 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4365720" y="5665680"/>
            <a:ext cx="142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Fahrstrasse C - 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4365720" y="5919840"/>
            <a:ext cx="142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Fahrstrasse B - 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0" name=""/>
          <p:cNvGrpSpPr/>
          <p:nvPr/>
        </p:nvGrpSpPr>
        <p:grpSpPr>
          <a:xfrm>
            <a:off x="1101600" y="2176560"/>
            <a:ext cx="3401280" cy="340920"/>
            <a:chOff x="1101600" y="2176560"/>
            <a:chExt cx="3401280" cy="340920"/>
          </a:xfrm>
        </p:grpSpPr>
        <p:sp>
          <p:nvSpPr>
            <p:cNvPr id="1311" name=""/>
            <p:cNvSpPr/>
            <p:nvPr/>
          </p:nvSpPr>
          <p:spPr>
            <a:xfrm>
              <a:off x="4280040" y="2176560"/>
              <a:ext cx="2228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101600" y="2517480"/>
              <a:ext cx="180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3" name=""/>
          <p:cNvGrpSpPr/>
          <p:nvPr/>
        </p:nvGrpSpPr>
        <p:grpSpPr>
          <a:xfrm>
            <a:off x="4506840" y="2125440"/>
            <a:ext cx="199800" cy="174600"/>
            <a:chOff x="4506840" y="2125440"/>
            <a:chExt cx="199800" cy="174600"/>
          </a:xfrm>
        </p:grpSpPr>
        <p:sp>
          <p:nvSpPr>
            <p:cNvPr id="1314" name=""/>
            <p:cNvSpPr/>
            <p:nvPr/>
          </p:nvSpPr>
          <p:spPr>
            <a:xfrm flipV="1">
              <a:off x="4600080" y="2125440"/>
              <a:ext cx="1440" cy="174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4536000" y="2174760"/>
              <a:ext cx="122040" cy="92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506840" y="2225520"/>
              <a:ext cx="199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7" name=""/>
          <p:cNvGrpSpPr/>
          <p:nvPr/>
        </p:nvGrpSpPr>
        <p:grpSpPr>
          <a:xfrm>
            <a:off x="4503600" y="2795400"/>
            <a:ext cx="199800" cy="174600"/>
            <a:chOff x="4503600" y="2795400"/>
            <a:chExt cx="199800" cy="174600"/>
          </a:xfrm>
        </p:grpSpPr>
        <p:sp>
          <p:nvSpPr>
            <p:cNvPr id="1318" name=""/>
            <p:cNvSpPr/>
            <p:nvPr/>
          </p:nvSpPr>
          <p:spPr>
            <a:xfrm flipV="1">
              <a:off x="4596840" y="2795400"/>
              <a:ext cx="1440" cy="174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4532760" y="2844720"/>
              <a:ext cx="122040" cy="92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4503600" y="2895480"/>
              <a:ext cx="199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1" name=""/>
          <p:cNvGrpSpPr/>
          <p:nvPr/>
        </p:nvGrpSpPr>
        <p:grpSpPr>
          <a:xfrm>
            <a:off x="856800" y="1055520"/>
            <a:ext cx="7604280" cy="1455840"/>
            <a:chOff x="856800" y="1055520"/>
            <a:chExt cx="7604280" cy="1455840"/>
          </a:xfrm>
        </p:grpSpPr>
        <p:sp>
          <p:nvSpPr>
            <p:cNvPr id="1322" name=""/>
            <p:cNvSpPr/>
            <p:nvPr/>
          </p:nvSpPr>
          <p:spPr>
            <a:xfrm flipH="1">
              <a:off x="874080" y="2403360"/>
              <a:ext cx="275040" cy="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 flipH="1" flipV="1">
              <a:off x="8085960" y="1153440"/>
              <a:ext cx="114480" cy="361440"/>
            </a:xfrm>
            <a:prstGeom prst="line">
              <a:avLst/>
            </a:prstGeom>
            <a:ln w="7632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 flipV="1">
              <a:off x="8157960" y="1185480"/>
              <a:ext cx="262080" cy="828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 flipH="1" flipV="1">
              <a:off x="856800" y="2298240"/>
              <a:ext cx="1619640" cy="468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 flipV="1">
              <a:off x="2476800" y="2135160"/>
              <a:ext cx="2094480" cy="1634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 flipV="1">
              <a:off x="4576320" y="1055520"/>
              <a:ext cx="3884760" cy="10764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1175040" y="2298600"/>
              <a:ext cx="0" cy="212760"/>
            </a:xfrm>
            <a:prstGeom prst="line">
              <a:avLst/>
            </a:prstGeom>
            <a:ln w="7632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9" name=""/>
          <p:cNvGrpSpPr/>
          <p:nvPr/>
        </p:nvGrpSpPr>
        <p:grpSpPr>
          <a:xfrm>
            <a:off x="870120" y="2571840"/>
            <a:ext cx="7943400" cy="408960"/>
            <a:chOff x="870120" y="2571840"/>
            <a:chExt cx="7943400" cy="408960"/>
          </a:xfrm>
        </p:grpSpPr>
        <p:sp>
          <p:nvSpPr>
            <p:cNvPr id="1330" name=""/>
            <p:cNvSpPr/>
            <p:nvPr/>
          </p:nvSpPr>
          <p:spPr>
            <a:xfrm flipH="1">
              <a:off x="878400" y="2976480"/>
              <a:ext cx="7932960" cy="28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1176120" y="2571840"/>
              <a:ext cx="0" cy="407880"/>
            </a:xfrm>
            <a:prstGeom prst="line">
              <a:avLst/>
            </a:prstGeom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 flipH="1">
              <a:off x="870120" y="2854080"/>
              <a:ext cx="275040" cy="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8538480" y="2877840"/>
              <a:ext cx="275040" cy="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8500680" y="2774880"/>
              <a:ext cx="0" cy="205920"/>
            </a:xfrm>
            <a:prstGeom prst="line">
              <a:avLst/>
            </a:prstGeom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5" name=""/>
          <p:cNvSpPr/>
          <p:nvPr/>
        </p:nvSpPr>
        <p:spPr>
          <a:xfrm flipH="1">
            <a:off x="2673000" y="2290680"/>
            <a:ext cx="1909800" cy="8568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6" name=""/>
          <p:cNvGrpSpPr/>
          <p:nvPr/>
        </p:nvGrpSpPr>
        <p:grpSpPr>
          <a:xfrm>
            <a:off x="4617720" y="1562400"/>
            <a:ext cx="4205160" cy="1242720"/>
            <a:chOff x="4617720" y="1562400"/>
            <a:chExt cx="4205160" cy="1242720"/>
          </a:xfrm>
        </p:grpSpPr>
        <p:sp>
          <p:nvSpPr>
            <p:cNvPr id="1337" name=""/>
            <p:cNvSpPr/>
            <p:nvPr/>
          </p:nvSpPr>
          <p:spPr>
            <a:xfrm flipV="1">
              <a:off x="6274440" y="2339640"/>
              <a:ext cx="273240" cy="11160"/>
            </a:xfrm>
            <a:prstGeom prst="line">
              <a:avLst/>
            </a:prstGeom>
            <a:ln w="19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 flipV="1">
              <a:off x="6262200" y="2265120"/>
              <a:ext cx="166680" cy="9720"/>
            </a:xfrm>
            <a:prstGeom prst="line">
              <a:avLst/>
            </a:prstGeom>
            <a:ln w="19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 flipV="1">
              <a:off x="6848640" y="2280960"/>
              <a:ext cx="1974240" cy="324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 flipH="1">
              <a:off x="4639680" y="2284560"/>
              <a:ext cx="1634040" cy="324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 flipH="1">
              <a:off x="4617720" y="2354400"/>
              <a:ext cx="1659240" cy="45072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6522120" y="2346480"/>
              <a:ext cx="350280" cy="3240"/>
            </a:xfrm>
            <a:prstGeom prst="line">
              <a:avLst/>
            </a:prstGeom>
            <a:ln w="19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 flipV="1">
              <a:off x="6415200" y="2151360"/>
              <a:ext cx="376560" cy="110880"/>
            </a:xfrm>
            <a:prstGeom prst="line">
              <a:avLst/>
            </a:prstGeom>
            <a:ln w="19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 flipV="1">
              <a:off x="8501400" y="2300400"/>
              <a:ext cx="0" cy="395280"/>
            </a:xfrm>
            <a:prstGeom prst="line">
              <a:avLst/>
            </a:prstGeom>
            <a:ln w="7632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8542440" y="2427480"/>
              <a:ext cx="275040" cy="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 flipV="1">
              <a:off x="8302680" y="1616040"/>
              <a:ext cx="261720" cy="8280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 flipV="1">
              <a:off x="6815880" y="1679760"/>
              <a:ext cx="1831320" cy="5191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 flipH="1" flipV="1">
              <a:off x="8228160" y="1562400"/>
              <a:ext cx="64800" cy="204480"/>
            </a:xfrm>
            <a:prstGeom prst="line">
              <a:avLst/>
            </a:prstGeom>
            <a:ln w="7632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9" name=""/>
          <p:cNvSpPr/>
          <p:nvPr/>
        </p:nvSpPr>
        <p:spPr>
          <a:xfrm flipH="1">
            <a:off x="2652480" y="2816280"/>
            <a:ext cx="1928520" cy="15228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8812080" y="2435400"/>
            <a:ext cx="17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8399520" y="1197000"/>
            <a:ext cx="96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9369360" y="1206360"/>
            <a:ext cx="0" cy="214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3254400" y="3603600"/>
            <a:ext cx="12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000000"/>
                </a:solidFill>
                <a:latin typeface="Times New Roman"/>
              </a:rPr>
              <a:t>Weichenantrie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0" y="533520"/>
            <a:ext cx="99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Verkabelung mit VSDM Modu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2673360" y="3265560"/>
            <a:ext cx="623880" cy="25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 flipH="1">
            <a:off x="2825640" y="3265560"/>
            <a:ext cx="146160" cy="25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2978280" y="3267000"/>
            <a:ext cx="145800" cy="25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2825640" y="3524400"/>
            <a:ext cx="0" cy="11491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3124080" y="3524400"/>
            <a:ext cx="0" cy="11458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2476440" y="4533840"/>
            <a:ext cx="3384720" cy="156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2746440" y="4673520"/>
            <a:ext cx="154080" cy="74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3049560" y="4675320"/>
            <a:ext cx="152280" cy="74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3354480" y="4675320"/>
            <a:ext cx="152280" cy="74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3657600" y="4675320"/>
            <a:ext cx="154080" cy="74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3962520" y="4675320"/>
            <a:ext cx="152280" cy="74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4265640" y="4675320"/>
            <a:ext cx="152280" cy="74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4568760" y="4675320"/>
            <a:ext cx="154080" cy="74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4873680" y="4675320"/>
            <a:ext cx="154080" cy="74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5178600" y="4668840"/>
            <a:ext cx="152280" cy="74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5483160" y="4668840"/>
            <a:ext cx="152640" cy="74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2690280" y="472428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2999880" y="472428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2746440" y="4938840"/>
            <a:ext cx="136440" cy="47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3052800" y="4938840"/>
            <a:ext cx="136440" cy="47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3359160" y="4938840"/>
            <a:ext cx="135000" cy="47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665520" y="4938840"/>
            <a:ext cx="135000" cy="47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3970440" y="4938840"/>
            <a:ext cx="136440" cy="47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276800" y="4938840"/>
            <a:ext cx="136440" cy="47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4583160" y="4938840"/>
            <a:ext cx="136440" cy="47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4890960" y="4938840"/>
            <a:ext cx="136800" cy="47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665520" y="5638680"/>
            <a:ext cx="1038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4723560" y="4197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WB4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 rot="16200000">
            <a:off x="2754000" y="4170600"/>
            <a:ext cx="485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gera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 rot="16200000">
            <a:off x="2494440" y="4218120"/>
            <a:ext cx="392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u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 flipH="1">
            <a:off x="2146320" y="3429000"/>
            <a:ext cx="52704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2394000" y="3181320"/>
            <a:ext cx="1197000" cy="4762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7" name=""/>
          <p:cNvGrpSpPr/>
          <p:nvPr/>
        </p:nvGrpSpPr>
        <p:grpSpPr>
          <a:xfrm>
            <a:off x="7182000" y="3524400"/>
            <a:ext cx="2063160" cy="1009440"/>
            <a:chOff x="7182000" y="3524400"/>
            <a:chExt cx="2063160" cy="1009440"/>
          </a:xfrm>
        </p:grpSpPr>
        <p:sp>
          <p:nvSpPr>
            <p:cNvPr id="1388" name=""/>
            <p:cNvSpPr/>
            <p:nvPr/>
          </p:nvSpPr>
          <p:spPr>
            <a:xfrm>
              <a:off x="7182000" y="3524400"/>
              <a:ext cx="2063160" cy="100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7646400" y="3875040"/>
              <a:ext cx="1134360" cy="30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0" name=""/>
            <p:cNvGrpSpPr/>
            <p:nvPr/>
          </p:nvGrpSpPr>
          <p:grpSpPr>
            <a:xfrm>
              <a:off x="7831800" y="3583080"/>
              <a:ext cx="761040" cy="81000"/>
              <a:chOff x="7831800" y="3583080"/>
              <a:chExt cx="761040" cy="81000"/>
            </a:xfrm>
          </p:grpSpPr>
          <p:sp>
            <p:nvSpPr>
              <p:cNvPr id="1391" name=""/>
              <p:cNvSpPr/>
              <p:nvPr/>
            </p:nvSpPr>
            <p:spPr>
              <a:xfrm>
                <a:off x="7831800" y="3589200"/>
                <a:ext cx="152640" cy="74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8135640" y="3583080"/>
                <a:ext cx="153000" cy="745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8440200" y="3583080"/>
                <a:ext cx="152640" cy="745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4" name=""/>
            <p:cNvGrpSpPr/>
            <p:nvPr/>
          </p:nvGrpSpPr>
          <p:grpSpPr>
            <a:xfrm>
              <a:off x="7831800" y="4402080"/>
              <a:ext cx="761040" cy="81000"/>
              <a:chOff x="7831800" y="4402080"/>
              <a:chExt cx="761040" cy="81000"/>
            </a:xfrm>
          </p:grpSpPr>
          <p:sp>
            <p:nvSpPr>
              <p:cNvPr id="1395" name=""/>
              <p:cNvSpPr/>
              <p:nvPr/>
            </p:nvSpPr>
            <p:spPr>
              <a:xfrm>
                <a:off x="7831800" y="4408200"/>
                <a:ext cx="152640" cy="74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8135640" y="4402080"/>
                <a:ext cx="153000" cy="745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8440200" y="4402080"/>
                <a:ext cx="152640" cy="745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98" name=""/>
          <p:cNvSpPr/>
          <p:nvPr/>
        </p:nvSpPr>
        <p:spPr>
          <a:xfrm>
            <a:off x="7237440" y="3833640"/>
            <a:ext cx="339840" cy="39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8847000" y="3838680"/>
            <a:ext cx="339840" cy="39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 rot="5400000">
            <a:off x="7196400" y="3891600"/>
            <a:ext cx="43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 rot="5400000">
            <a:off x="8831160" y="3889080"/>
            <a:ext cx="3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 rot="5400000">
            <a:off x="7785720" y="3629520"/>
            <a:ext cx="30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 rot="5400000">
            <a:off x="8078400" y="3631320"/>
            <a:ext cx="30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 rot="5400000">
            <a:off x="8383320" y="36313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 rot="5400000">
            <a:off x="7784280" y="4197960"/>
            <a:ext cx="30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 rot="5400000">
            <a:off x="8076240" y="4199400"/>
            <a:ext cx="30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 rot="5400000">
            <a:off x="8381880" y="41997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8667720" y="3911760"/>
            <a:ext cx="8244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 flipH="1">
            <a:off x="2825280" y="3940200"/>
            <a:ext cx="4418280" cy="32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3137040" y="4138560"/>
            <a:ext cx="410688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1" name=""/>
          <p:cNvGrpSpPr/>
          <p:nvPr/>
        </p:nvGrpSpPr>
        <p:grpSpPr>
          <a:xfrm>
            <a:off x="3697200" y="5649840"/>
            <a:ext cx="942840" cy="108000"/>
            <a:chOff x="3697200" y="5649840"/>
            <a:chExt cx="942840" cy="108000"/>
          </a:xfrm>
        </p:grpSpPr>
        <p:sp>
          <p:nvSpPr>
            <p:cNvPr id="1412" name=""/>
            <p:cNvSpPr/>
            <p:nvPr/>
          </p:nvSpPr>
          <p:spPr>
            <a:xfrm>
              <a:off x="3697200" y="5649840"/>
              <a:ext cx="108360" cy="10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3905280" y="5649840"/>
              <a:ext cx="108360" cy="10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4113360" y="5649840"/>
              <a:ext cx="108360" cy="10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4321800" y="5649840"/>
              <a:ext cx="108360" cy="10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4531680" y="5649840"/>
              <a:ext cx="108360" cy="10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7" name=""/>
          <p:cNvSpPr/>
          <p:nvPr/>
        </p:nvSpPr>
        <p:spPr>
          <a:xfrm>
            <a:off x="3697200" y="5802480"/>
            <a:ext cx="108000" cy="10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3905280" y="5802480"/>
            <a:ext cx="109440" cy="10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4113360" y="5802480"/>
            <a:ext cx="109440" cy="10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4321080" y="5802480"/>
            <a:ext cx="109800" cy="10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4532400" y="5802480"/>
            <a:ext cx="108000" cy="10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5013360" y="5835600"/>
            <a:ext cx="108000" cy="1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5222880" y="5835600"/>
            <a:ext cx="108000" cy="1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4875840" y="5649840"/>
            <a:ext cx="326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V+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5122800" y="564984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 flipH="1">
            <a:off x="5060880" y="5886360"/>
            <a:ext cx="6480" cy="490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5067360" y="6377040"/>
            <a:ext cx="16192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9080640" y="4138560"/>
            <a:ext cx="288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9369360" y="4138560"/>
            <a:ext cx="0" cy="1619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 flipH="1">
            <a:off x="6686640" y="5757840"/>
            <a:ext cx="2682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6686640" y="5757840"/>
            <a:ext cx="0" cy="619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8988480" y="2435400"/>
            <a:ext cx="0" cy="83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 flipH="1" flipV="1">
            <a:off x="8218080" y="3261960"/>
            <a:ext cx="77004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 flipV="1">
            <a:off x="8218440" y="3262320"/>
            <a:ext cx="0" cy="3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 flipV="1">
            <a:off x="7907400" y="3346200"/>
            <a:ext cx="0" cy="24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 flipH="1">
            <a:off x="6546600" y="3346560"/>
            <a:ext cx="136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6546960" y="2976480"/>
            <a:ext cx="0" cy="37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6546960" y="3346560"/>
            <a:ext cx="0" cy="159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6544800" y="474984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s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 flipH="1">
            <a:off x="8510400" y="3362400"/>
            <a:ext cx="85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 flipH="1">
            <a:off x="8508600" y="3354480"/>
            <a:ext cx="1800" cy="22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7732080" y="5459400"/>
            <a:ext cx="64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12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 flipV="1">
            <a:off x="9369360" y="762120"/>
            <a:ext cx="0" cy="43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 flipH="1">
            <a:off x="8647200" y="762120"/>
            <a:ext cx="72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7885080" y="42552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ückmeld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8483040" y="453384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7" name=""/>
          <p:cNvGrpSpPr/>
          <p:nvPr/>
        </p:nvGrpSpPr>
        <p:grpSpPr>
          <a:xfrm>
            <a:off x="1101600" y="2176560"/>
            <a:ext cx="3401280" cy="340920"/>
            <a:chOff x="1101600" y="2176560"/>
            <a:chExt cx="3401280" cy="340920"/>
          </a:xfrm>
        </p:grpSpPr>
        <p:sp>
          <p:nvSpPr>
            <p:cNvPr id="1448" name=""/>
            <p:cNvSpPr/>
            <p:nvPr/>
          </p:nvSpPr>
          <p:spPr>
            <a:xfrm>
              <a:off x="4280040" y="2176560"/>
              <a:ext cx="2228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1101600" y="2517480"/>
              <a:ext cx="180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0" name=""/>
          <p:cNvGrpSpPr/>
          <p:nvPr/>
        </p:nvGrpSpPr>
        <p:grpSpPr>
          <a:xfrm>
            <a:off x="4506840" y="2125440"/>
            <a:ext cx="199800" cy="174600"/>
            <a:chOff x="4506840" y="2125440"/>
            <a:chExt cx="199800" cy="174600"/>
          </a:xfrm>
        </p:grpSpPr>
        <p:sp>
          <p:nvSpPr>
            <p:cNvPr id="1451" name=""/>
            <p:cNvSpPr/>
            <p:nvPr/>
          </p:nvSpPr>
          <p:spPr>
            <a:xfrm flipV="1">
              <a:off x="4600080" y="2125440"/>
              <a:ext cx="1440" cy="174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4536000" y="2174760"/>
              <a:ext cx="122040" cy="92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4506840" y="2225520"/>
              <a:ext cx="199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4" name=""/>
          <p:cNvGrpSpPr/>
          <p:nvPr/>
        </p:nvGrpSpPr>
        <p:grpSpPr>
          <a:xfrm>
            <a:off x="4503600" y="2795400"/>
            <a:ext cx="199800" cy="174600"/>
            <a:chOff x="4503600" y="2795400"/>
            <a:chExt cx="199800" cy="174600"/>
          </a:xfrm>
        </p:grpSpPr>
        <p:sp>
          <p:nvSpPr>
            <p:cNvPr id="1455" name=""/>
            <p:cNvSpPr/>
            <p:nvPr/>
          </p:nvSpPr>
          <p:spPr>
            <a:xfrm flipV="1">
              <a:off x="4596840" y="2795400"/>
              <a:ext cx="1440" cy="174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4532760" y="2844720"/>
              <a:ext cx="122040" cy="92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4503600" y="2895480"/>
              <a:ext cx="199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8" name=""/>
          <p:cNvGrpSpPr/>
          <p:nvPr/>
        </p:nvGrpSpPr>
        <p:grpSpPr>
          <a:xfrm>
            <a:off x="856800" y="1055520"/>
            <a:ext cx="7604280" cy="1455840"/>
            <a:chOff x="856800" y="1055520"/>
            <a:chExt cx="7604280" cy="1455840"/>
          </a:xfrm>
        </p:grpSpPr>
        <p:sp>
          <p:nvSpPr>
            <p:cNvPr id="1459" name=""/>
            <p:cNvSpPr/>
            <p:nvPr/>
          </p:nvSpPr>
          <p:spPr>
            <a:xfrm flipH="1">
              <a:off x="874080" y="2403360"/>
              <a:ext cx="275040" cy="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 flipH="1" flipV="1">
              <a:off x="8085960" y="1153440"/>
              <a:ext cx="114480" cy="361440"/>
            </a:xfrm>
            <a:prstGeom prst="line">
              <a:avLst/>
            </a:prstGeom>
            <a:ln w="7632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 flipV="1">
              <a:off x="8157960" y="1185480"/>
              <a:ext cx="262080" cy="828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 flipH="1" flipV="1">
              <a:off x="856800" y="2298240"/>
              <a:ext cx="1619640" cy="468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 flipV="1">
              <a:off x="2476800" y="2135160"/>
              <a:ext cx="2094480" cy="1634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 flipV="1">
              <a:off x="4576320" y="1055520"/>
              <a:ext cx="3884760" cy="10764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1175040" y="2298600"/>
              <a:ext cx="0" cy="212760"/>
            </a:xfrm>
            <a:prstGeom prst="line">
              <a:avLst/>
            </a:prstGeom>
            <a:ln w="7632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6" name=""/>
          <p:cNvGrpSpPr/>
          <p:nvPr/>
        </p:nvGrpSpPr>
        <p:grpSpPr>
          <a:xfrm>
            <a:off x="870120" y="2571840"/>
            <a:ext cx="7943400" cy="408960"/>
            <a:chOff x="870120" y="2571840"/>
            <a:chExt cx="7943400" cy="408960"/>
          </a:xfrm>
        </p:grpSpPr>
        <p:sp>
          <p:nvSpPr>
            <p:cNvPr id="1467" name=""/>
            <p:cNvSpPr/>
            <p:nvPr/>
          </p:nvSpPr>
          <p:spPr>
            <a:xfrm flipH="1">
              <a:off x="878400" y="2976480"/>
              <a:ext cx="7932960" cy="28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1176120" y="2571840"/>
              <a:ext cx="0" cy="407880"/>
            </a:xfrm>
            <a:prstGeom prst="line">
              <a:avLst/>
            </a:prstGeom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 flipH="1">
              <a:off x="870120" y="2854080"/>
              <a:ext cx="275040" cy="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8538480" y="2877840"/>
              <a:ext cx="275040" cy="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8500680" y="2774880"/>
              <a:ext cx="0" cy="205920"/>
            </a:xfrm>
            <a:prstGeom prst="line">
              <a:avLst/>
            </a:prstGeom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2" name=""/>
          <p:cNvSpPr/>
          <p:nvPr/>
        </p:nvSpPr>
        <p:spPr>
          <a:xfrm flipH="1">
            <a:off x="2673000" y="2290680"/>
            <a:ext cx="1909800" cy="8568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3" name=""/>
          <p:cNvGrpSpPr/>
          <p:nvPr/>
        </p:nvGrpSpPr>
        <p:grpSpPr>
          <a:xfrm>
            <a:off x="4617720" y="1562400"/>
            <a:ext cx="4205160" cy="1242720"/>
            <a:chOff x="4617720" y="1562400"/>
            <a:chExt cx="4205160" cy="1242720"/>
          </a:xfrm>
        </p:grpSpPr>
        <p:sp>
          <p:nvSpPr>
            <p:cNvPr id="1474" name=""/>
            <p:cNvSpPr/>
            <p:nvPr/>
          </p:nvSpPr>
          <p:spPr>
            <a:xfrm flipV="1">
              <a:off x="6274440" y="2339640"/>
              <a:ext cx="273240" cy="11160"/>
            </a:xfrm>
            <a:prstGeom prst="line">
              <a:avLst/>
            </a:prstGeom>
            <a:ln w="19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 flipV="1">
              <a:off x="6262200" y="2265120"/>
              <a:ext cx="166680" cy="9720"/>
            </a:xfrm>
            <a:prstGeom prst="line">
              <a:avLst/>
            </a:prstGeom>
            <a:ln w="19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 flipV="1">
              <a:off x="6848640" y="2280960"/>
              <a:ext cx="1974240" cy="324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 flipH="1">
              <a:off x="4639680" y="2284560"/>
              <a:ext cx="1634040" cy="324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 flipH="1">
              <a:off x="4617720" y="2354400"/>
              <a:ext cx="1659240" cy="45072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522120" y="2346480"/>
              <a:ext cx="350280" cy="3240"/>
            </a:xfrm>
            <a:prstGeom prst="line">
              <a:avLst/>
            </a:prstGeom>
            <a:ln w="19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 flipV="1">
              <a:off x="6415200" y="2151360"/>
              <a:ext cx="376560" cy="110880"/>
            </a:xfrm>
            <a:prstGeom prst="line">
              <a:avLst/>
            </a:prstGeom>
            <a:ln w="19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 flipV="1">
              <a:off x="8501400" y="2300400"/>
              <a:ext cx="0" cy="395280"/>
            </a:xfrm>
            <a:prstGeom prst="line">
              <a:avLst/>
            </a:prstGeom>
            <a:ln w="7632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8542440" y="2427480"/>
              <a:ext cx="275040" cy="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 flipV="1">
              <a:off x="8302680" y="1616040"/>
              <a:ext cx="261720" cy="8280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 flipV="1">
              <a:off x="6815880" y="1679760"/>
              <a:ext cx="1831320" cy="5191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 flipH="1" flipV="1">
              <a:off x="8228160" y="1562400"/>
              <a:ext cx="64800" cy="204480"/>
            </a:xfrm>
            <a:prstGeom prst="line">
              <a:avLst/>
            </a:prstGeom>
            <a:ln w="7632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6" name=""/>
          <p:cNvSpPr/>
          <p:nvPr/>
        </p:nvSpPr>
        <p:spPr>
          <a:xfrm flipH="1">
            <a:off x="2652480" y="2816280"/>
            <a:ext cx="1928520" cy="15228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8812080" y="2435400"/>
            <a:ext cx="17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8399520" y="1197000"/>
            <a:ext cx="96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9369360" y="1206360"/>
            <a:ext cx="0" cy="214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3254400" y="3603600"/>
            <a:ext cx="12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000000"/>
                </a:solidFill>
                <a:latin typeface="Times New Roman"/>
              </a:rPr>
              <a:t>Weichenantrie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0" y="533520"/>
            <a:ext cx="990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Tipp: billige Weichenlaterne mit L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z.B. für Weichen im Schattenbahnh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2673360" y="3265560"/>
            <a:ext cx="623880" cy="25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 flipH="1">
            <a:off x="2825640" y="3265560"/>
            <a:ext cx="146160" cy="25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2978280" y="3267000"/>
            <a:ext cx="145800" cy="25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2825640" y="3524400"/>
            <a:ext cx="0" cy="11491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3124080" y="3524400"/>
            <a:ext cx="0" cy="11458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2476440" y="4533840"/>
            <a:ext cx="3384720" cy="156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2746440" y="4673520"/>
            <a:ext cx="154080" cy="74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3049560" y="4675320"/>
            <a:ext cx="152280" cy="74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3354480" y="4675320"/>
            <a:ext cx="152280" cy="74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3657600" y="4675320"/>
            <a:ext cx="154080" cy="74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3962520" y="4675320"/>
            <a:ext cx="152280" cy="74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4265640" y="4675320"/>
            <a:ext cx="152280" cy="74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4568760" y="4675320"/>
            <a:ext cx="154080" cy="74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4873680" y="4675320"/>
            <a:ext cx="154080" cy="74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5178600" y="4668840"/>
            <a:ext cx="152280" cy="74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5483160" y="4668840"/>
            <a:ext cx="152640" cy="74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2690280" y="472428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2999880" y="472428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2746440" y="4938840"/>
            <a:ext cx="136440" cy="47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3052800" y="4938840"/>
            <a:ext cx="136440" cy="47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359160" y="4938840"/>
            <a:ext cx="135000" cy="47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3665520" y="4938840"/>
            <a:ext cx="135000" cy="47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3970440" y="4938840"/>
            <a:ext cx="136440" cy="47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4276800" y="4938840"/>
            <a:ext cx="136440" cy="47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4583160" y="4938840"/>
            <a:ext cx="136440" cy="47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4890960" y="4938840"/>
            <a:ext cx="136800" cy="47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3665520" y="5638680"/>
            <a:ext cx="1038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4723560" y="4197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WB4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 rot="16200000">
            <a:off x="2754000" y="4170600"/>
            <a:ext cx="485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gera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 rot="16200000">
            <a:off x="2494440" y="4218120"/>
            <a:ext cx="392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u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 flipH="1">
            <a:off x="2146320" y="3429000"/>
            <a:ext cx="52704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2394000" y="3181320"/>
            <a:ext cx="1197000" cy="4762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4" name=""/>
          <p:cNvGrpSpPr/>
          <p:nvPr/>
        </p:nvGrpSpPr>
        <p:grpSpPr>
          <a:xfrm>
            <a:off x="7182000" y="3524400"/>
            <a:ext cx="2063160" cy="1009440"/>
            <a:chOff x="7182000" y="3524400"/>
            <a:chExt cx="2063160" cy="1009440"/>
          </a:xfrm>
        </p:grpSpPr>
        <p:sp>
          <p:nvSpPr>
            <p:cNvPr id="1525" name=""/>
            <p:cNvSpPr/>
            <p:nvPr/>
          </p:nvSpPr>
          <p:spPr>
            <a:xfrm>
              <a:off x="7182000" y="3524400"/>
              <a:ext cx="2063160" cy="100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7646400" y="3875040"/>
              <a:ext cx="1134360" cy="30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7" name=""/>
            <p:cNvGrpSpPr/>
            <p:nvPr/>
          </p:nvGrpSpPr>
          <p:grpSpPr>
            <a:xfrm>
              <a:off x="7831800" y="3583080"/>
              <a:ext cx="761040" cy="81000"/>
              <a:chOff x="7831800" y="3583080"/>
              <a:chExt cx="761040" cy="81000"/>
            </a:xfrm>
          </p:grpSpPr>
          <p:sp>
            <p:nvSpPr>
              <p:cNvPr id="1528" name=""/>
              <p:cNvSpPr/>
              <p:nvPr/>
            </p:nvSpPr>
            <p:spPr>
              <a:xfrm>
                <a:off x="7831800" y="3589200"/>
                <a:ext cx="152640" cy="74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8135640" y="3583080"/>
                <a:ext cx="153000" cy="745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8440200" y="3583080"/>
                <a:ext cx="152640" cy="745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1" name=""/>
            <p:cNvGrpSpPr/>
            <p:nvPr/>
          </p:nvGrpSpPr>
          <p:grpSpPr>
            <a:xfrm>
              <a:off x="7831800" y="4402080"/>
              <a:ext cx="761040" cy="81000"/>
              <a:chOff x="7831800" y="4402080"/>
              <a:chExt cx="761040" cy="81000"/>
            </a:xfrm>
          </p:grpSpPr>
          <p:sp>
            <p:nvSpPr>
              <p:cNvPr id="1532" name=""/>
              <p:cNvSpPr/>
              <p:nvPr/>
            </p:nvSpPr>
            <p:spPr>
              <a:xfrm>
                <a:off x="7831800" y="4408200"/>
                <a:ext cx="152640" cy="74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8135640" y="4402080"/>
                <a:ext cx="153000" cy="745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8440200" y="4402080"/>
                <a:ext cx="152640" cy="745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35" name=""/>
          <p:cNvSpPr/>
          <p:nvPr/>
        </p:nvSpPr>
        <p:spPr>
          <a:xfrm>
            <a:off x="7237440" y="3833640"/>
            <a:ext cx="339840" cy="39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8847000" y="3838680"/>
            <a:ext cx="339840" cy="39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 rot="5400000">
            <a:off x="7196400" y="3891600"/>
            <a:ext cx="43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 rot="5400000">
            <a:off x="8831160" y="3889080"/>
            <a:ext cx="3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 rot="5400000">
            <a:off x="7785720" y="3629520"/>
            <a:ext cx="30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 rot="5400000">
            <a:off x="8078400" y="3631320"/>
            <a:ext cx="30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 rot="5400000">
            <a:off x="8383320" y="36313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 rot="5400000">
            <a:off x="7784280" y="4197960"/>
            <a:ext cx="30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 rot="5400000">
            <a:off x="8076240" y="4199400"/>
            <a:ext cx="30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 rot="5400000">
            <a:off x="8381880" y="41997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8667720" y="3911760"/>
            <a:ext cx="8244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 flipH="1">
            <a:off x="2825280" y="3940200"/>
            <a:ext cx="4418280" cy="32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3137040" y="4138560"/>
            <a:ext cx="410688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8" name=""/>
          <p:cNvGrpSpPr/>
          <p:nvPr/>
        </p:nvGrpSpPr>
        <p:grpSpPr>
          <a:xfrm>
            <a:off x="3697200" y="5649840"/>
            <a:ext cx="942840" cy="108000"/>
            <a:chOff x="3697200" y="5649840"/>
            <a:chExt cx="942840" cy="108000"/>
          </a:xfrm>
        </p:grpSpPr>
        <p:sp>
          <p:nvSpPr>
            <p:cNvPr id="1549" name=""/>
            <p:cNvSpPr/>
            <p:nvPr/>
          </p:nvSpPr>
          <p:spPr>
            <a:xfrm>
              <a:off x="3697200" y="5649840"/>
              <a:ext cx="108360" cy="10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3905280" y="5649840"/>
              <a:ext cx="108360" cy="10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4113360" y="5649840"/>
              <a:ext cx="108360" cy="10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4321800" y="5649840"/>
              <a:ext cx="108360" cy="10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4531680" y="5649840"/>
              <a:ext cx="108360" cy="10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4" name=""/>
          <p:cNvSpPr/>
          <p:nvPr/>
        </p:nvSpPr>
        <p:spPr>
          <a:xfrm>
            <a:off x="3697200" y="5802480"/>
            <a:ext cx="108000" cy="10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3905280" y="5802480"/>
            <a:ext cx="109440" cy="10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4113360" y="5802480"/>
            <a:ext cx="109440" cy="10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4321080" y="5802480"/>
            <a:ext cx="109800" cy="10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4532400" y="5802480"/>
            <a:ext cx="108000" cy="10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5013360" y="5835600"/>
            <a:ext cx="108000" cy="1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5222880" y="5835600"/>
            <a:ext cx="108000" cy="1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4875840" y="5649840"/>
            <a:ext cx="326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V+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5122800" y="564984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 flipH="1">
            <a:off x="5060880" y="5886360"/>
            <a:ext cx="6480" cy="490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5067360" y="6377040"/>
            <a:ext cx="16192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9080640" y="4138560"/>
            <a:ext cx="288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9369360" y="4138560"/>
            <a:ext cx="0" cy="1619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 flipH="1">
            <a:off x="6686640" y="5757840"/>
            <a:ext cx="2682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6686640" y="5757840"/>
            <a:ext cx="0" cy="619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8988480" y="2435400"/>
            <a:ext cx="0" cy="83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 flipH="1" flipV="1">
            <a:off x="8218080" y="3261960"/>
            <a:ext cx="77004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 flipV="1">
            <a:off x="8218440" y="3262320"/>
            <a:ext cx="0" cy="3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 flipV="1">
            <a:off x="7907400" y="3346200"/>
            <a:ext cx="0" cy="24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 flipH="1">
            <a:off x="6546600" y="3346560"/>
            <a:ext cx="136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6546960" y="2976480"/>
            <a:ext cx="0" cy="37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 flipH="1">
            <a:off x="6541920" y="3346560"/>
            <a:ext cx="5040" cy="229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5870160" y="533412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s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 flipH="1">
            <a:off x="8510400" y="3362400"/>
            <a:ext cx="85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 flipH="1">
            <a:off x="8508600" y="3354480"/>
            <a:ext cx="1800" cy="22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7087680" y="5459400"/>
            <a:ext cx="64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15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 flipV="1">
            <a:off x="9369360" y="762120"/>
            <a:ext cx="0" cy="43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 flipH="1">
            <a:off x="8647200" y="762120"/>
            <a:ext cx="72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7885080" y="42552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ückmeld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8483040" y="453384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8151840" y="4870440"/>
            <a:ext cx="144360" cy="5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8218440" y="4475160"/>
            <a:ext cx="0" cy="3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8218440" y="5410080"/>
            <a:ext cx="0" cy="34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8151840" y="5105520"/>
            <a:ext cx="149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8147160" y="5033880"/>
            <a:ext cx="14904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8150400" y="4962600"/>
            <a:ext cx="14904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 flipH="1">
            <a:off x="8523360" y="4476600"/>
            <a:ext cx="1440" cy="982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 flipV="1">
            <a:off x="8413920" y="4938840"/>
            <a:ext cx="218880" cy="123840"/>
          </a:xfrm>
          <a:prstGeom prst="triangle">
            <a:avLst>
              <a:gd name="adj" fmla="val 50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8413920" y="5062680"/>
            <a:ext cx="218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 flipV="1">
            <a:off x="8704440" y="4986000"/>
            <a:ext cx="156960" cy="11916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 flipV="1">
            <a:off x="8704440" y="4870080"/>
            <a:ext cx="156960" cy="11916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7908840" y="4476600"/>
            <a:ext cx="1800" cy="982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 flipH="1" flipV="1">
            <a:off x="7800120" y="4938840"/>
            <a:ext cx="219240" cy="123840"/>
          </a:xfrm>
          <a:prstGeom prst="triangle">
            <a:avLst>
              <a:gd name="adj" fmla="val 50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 flipH="1">
            <a:off x="7800480" y="5062680"/>
            <a:ext cx="219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 flipH="1" flipV="1">
            <a:off x="7571880" y="4986000"/>
            <a:ext cx="157320" cy="119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 flipH="1" flipV="1">
            <a:off x="7571880" y="4870080"/>
            <a:ext cx="157320" cy="119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 flipH="1">
            <a:off x="6575400" y="5459400"/>
            <a:ext cx="1959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8205840" y="510048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    680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4506840" y="3576240"/>
            <a:ext cx="199800" cy="174600"/>
            <a:chOff x="4506840" y="3576240"/>
            <a:chExt cx="199800" cy="174600"/>
          </a:xfrm>
        </p:grpSpPr>
        <p:sp>
          <p:nvSpPr>
            <p:cNvPr id="60" name=""/>
            <p:cNvSpPr/>
            <p:nvPr/>
          </p:nvSpPr>
          <p:spPr>
            <a:xfrm flipV="1">
              <a:off x="4600080" y="3576240"/>
              <a:ext cx="1440" cy="174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536000" y="3625560"/>
              <a:ext cx="122040" cy="92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06840" y="3676320"/>
              <a:ext cx="199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158280" y="387360"/>
            <a:ext cx="28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Mechanischer Umb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07040" y="3367080"/>
            <a:ext cx="560160" cy="57636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87960" y="4067280"/>
            <a:ext cx="560160" cy="57600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101600" y="3627360"/>
            <a:ext cx="3401280" cy="340920"/>
            <a:chOff x="1101600" y="3627360"/>
            <a:chExt cx="3401280" cy="340920"/>
          </a:xfrm>
        </p:grpSpPr>
        <p:sp>
          <p:nvSpPr>
            <p:cNvPr id="67" name=""/>
            <p:cNvSpPr/>
            <p:nvPr/>
          </p:nvSpPr>
          <p:spPr>
            <a:xfrm>
              <a:off x="4280040" y="3627360"/>
              <a:ext cx="2228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101600" y="3968280"/>
              <a:ext cx="180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301480" y="2136600"/>
            <a:ext cx="218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Times New Roman"/>
              </a:rPr>
              <a:t>Trennen mit der Schei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3654360"/>
            <a:ext cx="561960" cy="57636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126280" y="3994200"/>
            <a:ext cx="559080" cy="57456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978680" y="2854440"/>
            <a:ext cx="560520" cy="57600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05760" y="4818240"/>
            <a:ext cx="217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Times New Roman"/>
              </a:rPr>
              <a:t>Trennen (mit der Zang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6273720" y="3790440"/>
            <a:ext cx="273240" cy="11160"/>
          </a:xfrm>
          <a:prstGeom prst="line">
            <a:avLst/>
          </a:prstGeom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6261120" y="3715920"/>
            <a:ext cx="168120" cy="9720"/>
          </a:xfrm>
          <a:prstGeom prst="line">
            <a:avLst/>
          </a:prstGeom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6848640" y="3730320"/>
            <a:ext cx="2904840" cy="468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640040" y="3735360"/>
            <a:ext cx="1633320" cy="324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4618080" y="3805200"/>
            <a:ext cx="1658880" cy="45072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673000" y="3741840"/>
            <a:ext cx="1909800" cy="85680"/>
          </a:xfrm>
          <a:prstGeom prst="line">
            <a:avLst/>
          </a:prstGeom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2676240" y="4260960"/>
            <a:ext cx="1896840" cy="123840"/>
          </a:xfrm>
          <a:prstGeom prst="line">
            <a:avLst/>
          </a:prstGeom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521400" y="3797280"/>
            <a:ext cx="351000" cy="3240"/>
          </a:xfrm>
          <a:prstGeom prst="line">
            <a:avLst/>
          </a:prstGeom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6415200" y="3602160"/>
            <a:ext cx="376200" cy="110880"/>
          </a:xfrm>
          <a:prstGeom prst="line">
            <a:avLst/>
          </a:prstGeom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879480" y="4427640"/>
            <a:ext cx="8874000" cy="32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1299960" y="3982680"/>
            <a:ext cx="2346120" cy="98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899320" y="4190760"/>
            <a:ext cx="243828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870120" y="3762360"/>
            <a:ext cx="421920" cy="668520"/>
            <a:chOff x="870120" y="3762360"/>
            <a:chExt cx="421920" cy="668520"/>
          </a:xfrm>
        </p:grpSpPr>
        <p:sp>
          <p:nvSpPr>
            <p:cNvPr id="87" name=""/>
            <p:cNvSpPr/>
            <p:nvPr/>
          </p:nvSpPr>
          <p:spPr>
            <a:xfrm>
              <a:off x="1181520" y="3762360"/>
              <a:ext cx="0" cy="668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071360" y="3968640"/>
              <a:ext cx="2206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873360" y="3854520"/>
              <a:ext cx="275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870120" y="4305240"/>
              <a:ext cx="275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8118000" y="3753000"/>
            <a:ext cx="420480" cy="668160"/>
            <a:chOff x="8118000" y="3753000"/>
            <a:chExt cx="420480" cy="668160"/>
          </a:xfrm>
        </p:grpSpPr>
        <p:sp>
          <p:nvSpPr>
            <p:cNvPr id="92" name=""/>
            <p:cNvSpPr/>
            <p:nvPr/>
          </p:nvSpPr>
          <p:spPr>
            <a:xfrm flipV="1">
              <a:off x="8428680" y="3753000"/>
              <a:ext cx="0" cy="6681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18880" y="4215240"/>
              <a:ext cx="219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8121240" y="4329360"/>
              <a:ext cx="274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8118000" y="3878640"/>
              <a:ext cx="274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8023320" y="2547000"/>
            <a:ext cx="502560" cy="641880"/>
            <a:chOff x="8023320" y="2547000"/>
            <a:chExt cx="502560" cy="641880"/>
          </a:xfrm>
        </p:grpSpPr>
        <p:sp>
          <p:nvSpPr>
            <p:cNvPr id="97" name=""/>
            <p:cNvSpPr/>
            <p:nvPr/>
          </p:nvSpPr>
          <p:spPr>
            <a:xfrm flipH="1" flipV="1">
              <a:off x="8283600" y="2547000"/>
              <a:ext cx="197640" cy="638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8314920" y="2955960"/>
              <a:ext cx="210960" cy="65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8159760" y="3107160"/>
              <a:ext cx="263160" cy="81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8023320" y="2677680"/>
              <a:ext cx="263160" cy="81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 flipH="1" flipV="1">
            <a:off x="857160" y="3749400"/>
            <a:ext cx="1619280" cy="468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2476440" y="3586320"/>
            <a:ext cx="2095560" cy="16344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503600" y="4246200"/>
            <a:ext cx="199800" cy="174600"/>
            <a:chOff x="4503600" y="4246200"/>
            <a:chExt cx="199800" cy="174600"/>
          </a:xfrm>
        </p:grpSpPr>
        <p:sp>
          <p:nvSpPr>
            <p:cNvPr id="104" name=""/>
            <p:cNvSpPr/>
            <p:nvPr/>
          </p:nvSpPr>
          <p:spPr>
            <a:xfrm flipV="1">
              <a:off x="4596840" y="4246200"/>
              <a:ext cx="1440" cy="174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32760" y="4295520"/>
              <a:ext cx="122040" cy="92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03600" y="4346280"/>
              <a:ext cx="199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 flipV="1">
            <a:off x="4576680" y="2136600"/>
            <a:ext cx="5024520" cy="144648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6815160" y="2854080"/>
            <a:ext cx="2938320" cy="79524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5899320" y="2989440"/>
            <a:ext cx="248436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935440" y="2486160"/>
            <a:ext cx="1527120" cy="179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962440" y="2449440"/>
            <a:ext cx="1500120" cy="120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546960" y="3392640"/>
            <a:ext cx="560160" cy="57600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962440" y="2449440"/>
            <a:ext cx="3828960" cy="122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791400" y="3576600"/>
            <a:ext cx="81000" cy="27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8292960" y="2087280"/>
            <a:ext cx="992160" cy="290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20691600">
            <a:off x="8085240" y="2028600"/>
            <a:ext cx="60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9842400">
            <a:off x="9307080" y="2144520"/>
            <a:ext cx="103320" cy="745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9497880" y="3637800"/>
            <a:ext cx="103320" cy="745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97800" y="3576600"/>
            <a:ext cx="1000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21574200">
            <a:off x="8685000" y="3327120"/>
            <a:ext cx="59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1476360" y="4430520"/>
            <a:ext cx="200160" cy="90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78160" y="5154480"/>
            <a:ext cx="63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243480" y="2325600"/>
            <a:ext cx="285840" cy="66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204600" y="2087640"/>
            <a:ext cx="11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ückmeld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65520" y="1459080"/>
            <a:ext cx="180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erzstück Umschal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29200" y="1763640"/>
            <a:ext cx="76320" cy="191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1101600" y="3627360"/>
            <a:ext cx="3401280" cy="340920"/>
            <a:chOff x="1101600" y="3627360"/>
            <a:chExt cx="3401280" cy="340920"/>
          </a:xfrm>
        </p:grpSpPr>
        <p:sp>
          <p:nvSpPr>
            <p:cNvPr id="128" name=""/>
            <p:cNvSpPr/>
            <p:nvPr/>
          </p:nvSpPr>
          <p:spPr>
            <a:xfrm>
              <a:off x="4280040" y="3627360"/>
              <a:ext cx="2228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101600" y="3968280"/>
              <a:ext cx="180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4506840" y="3576240"/>
            <a:ext cx="199800" cy="174600"/>
            <a:chOff x="4506840" y="3576240"/>
            <a:chExt cx="199800" cy="174600"/>
          </a:xfrm>
        </p:grpSpPr>
        <p:sp>
          <p:nvSpPr>
            <p:cNvPr id="131" name=""/>
            <p:cNvSpPr/>
            <p:nvPr/>
          </p:nvSpPr>
          <p:spPr>
            <a:xfrm flipV="1">
              <a:off x="4600080" y="3576240"/>
              <a:ext cx="1440" cy="174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36000" y="3625560"/>
              <a:ext cx="122040" cy="92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06840" y="3676320"/>
              <a:ext cx="199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4503600" y="4246200"/>
            <a:ext cx="199800" cy="174600"/>
            <a:chOff x="4503600" y="4246200"/>
            <a:chExt cx="199800" cy="174600"/>
          </a:xfrm>
        </p:grpSpPr>
        <p:sp>
          <p:nvSpPr>
            <p:cNvPr id="135" name=""/>
            <p:cNvSpPr/>
            <p:nvPr/>
          </p:nvSpPr>
          <p:spPr>
            <a:xfrm flipV="1">
              <a:off x="4596840" y="4246200"/>
              <a:ext cx="1440" cy="174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532760" y="4295520"/>
              <a:ext cx="122040" cy="92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03600" y="4346280"/>
              <a:ext cx="199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856800" y="2506680"/>
            <a:ext cx="7604280" cy="1455840"/>
            <a:chOff x="856800" y="2506680"/>
            <a:chExt cx="7604280" cy="1455840"/>
          </a:xfrm>
        </p:grpSpPr>
        <p:sp>
          <p:nvSpPr>
            <p:cNvPr id="139" name=""/>
            <p:cNvSpPr/>
            <p:nvPr/>
          </p:nvSpPr>
          <p:spPr>
            <a:xfrm flipH="1">
              <a:off x="874080" y="3854520"/>
              <a:ext cx="275040" cy="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8085960" y="2604600"/>
              <a:ext cx="114480" cy="361440"/>
            </a:xfrm>
            <a:prstGeom prst="line">
              <a:avLst/>
            </a:prstGeom>
            <a:ln w="7632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8157960" y="2636640"/>
              <a:ext cx="262080" cy="828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 flipV="1">
              <a:off x="856800" y="3749400"/>
              <a:ext cx="1619640" cy="468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2476800" y="3586320"/>
              <a:ext cx="2094480" cy="1634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4576320" y="2506680"/>
              <a:ext cx="3884760" cy="10764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175040" y="3749760"/>
              <a:ext cx="0" cy="212760"/>
            </a:xfrm>
            <a:prstGeom prst="line">
              <a:avLst/>
            </a:prstGeom>
            <a:ln w="7632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870120" y="4022640"/>
            <a:ext cx="7943400" cy="409680"/>
            <a:chOff x="870120" y="4022640"/>
            <a:chExt cx="7943400" cy="409680"/>
          </a:xfrm>
        </p:grpSpPr>
        <p:sp>
          <p:nvSpPr>
            <p:cNvPr id="147" name=""/>
            <p:cNvSpPr/>
            <p:nvPr/>
          </p:nvSpPr>
          <p:spPr>
            <a:xfrm flipH="1">
              <a:off x="878400" y="4427640"/>
              <a:ext cx="7932960" cy="324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76120" y="4022640"/>
              <a:ext cx="0" cy="408240"/>
            </a:xfrm>
            <a:prstGeom prst="line">
              <a:avLst/>
            </a:prstGeom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870120" y="4305240"/>
              <a:ext cx="275040" cy="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538480" y="4329000"/>
              <a:ext cx="275040" cy="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500680" y="4226040"/>
              <a:ext cx="0" cy="206280"/>
            </a:xfrm>
            <a:prstGeom prst="line">
              <a:avLst/>
            </a:prstGeom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 flipH="1">
            <a:off x="2673000" y="3741840"/>
            <a:ext cx="1909800" cy="8568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6273720" y="3790440"/>
            <a:ext cx="274680" cy="11160"/>
          </a:xfrm>
          <a:prstGeom prst="line">
            <a:avLst/>
          </a:prstGeom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262560" y="3715920"/>
            <a:ext cx="166680" cy="9720"/>
          </a:xfrm>
          <a:prstGeom prst="line">
            <a:avLst/>
          </a:prstGeom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6848640" y="3731760"/>
            <a:ext cx="1974600" cy="324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4640040" y="3735360"/>
            <a:ext cx="1633320" cy="324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4618080" y="3805200"/>
            <a:ext cx="1660320" cy="45072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521400" y="3797280"/>
            <a:ext cx="351000" cy="3240"/>
          </a:xfrm>
          <a:prstGeom prst="line">
            <a:avLst/>
          </a:prstGeom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6415200" y="3602160"/>
            <a:ext cx="376200" cy="110880"/>
          </a:xfrm>
          <a:prstGeom prst="line">
            <a:avLst/>
          </a:prstGeom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8501040" y="3751200"/>
            <a:ext cx="0" cy="39528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541720" y="3878280"/>
            <a:ext cx="276120" cy="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8302680" y="3066480"/>
            <a:ext cx="263520" cy="8352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6816600" y="3130560"/>
            <a:ext cx="1830600" cy="51912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8228880" y="3013200"/>
            <a:ext cx="64800" cy="20448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2652480" y="4267080"/>
            <a:ext cx="1928520" cy="15264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145960" y="1774800"/>
            <a:ext cx="491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Das ganze Herzstück entweder zu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Masse oder zur Rückmeldung schal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633080" y="4901760"/>
            <a:ext cx="288360" cy="919080"/>
            <a:chOff x="7633080" y="4901760"/>
            <a:chExt cx="288360" cy="919080"/>
          </a:xfrm>
        </p:grpSpPr>
        <p:sp>
          <p:nvSpPr>
            <p:cNvPr id="168" name=""/>
            <p:cNvSpPr/>
            <p:nvPr/>
          </p:nvSpPr>
          <p:spPr>
            <a:xfrm flipV="1" rot="16200000">
              <a:off x="7815600" y="5049360"/>
              <a:ext cx="74520" cy="82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 rot="16200000">
              <a:off x="7636680" y="4897440"/>
              <a:ext cx="74520" cy="82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 rot="16200000">
              <a:off x="7636680" y="5189400"/>
              <a:ext cx="74520" cy="82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7688160" y="5115960"/>
              <a:ext cx="144360" cy="10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7646760" y="5161320"/>
              <a:ext cx="274680" cy="659520"/>
              <a:chOff x="7646760" y="5161320"/>
              <a:chExt cx="274680" cy="659520"/>
            </a:xfrm>
          </p:grpSpPr>
          <p:sp>
            <p:nvSpPr>
              <p:cNvPr id="173" name=""/>
              <p:cNvSpPr/>
              <p:nvPr/>
            </p:nvSpPr>
            <p:spPr>
              <a:xfrm>
                <a:off x="7770600" y="5161320"/>
                <a:ext cx="0" cy="26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V="1" rot="16200000">
                <a:off x="7587360" y="5486400"/>
                <a:ext cx="393480" cy="274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V="1">
                <a:off x="7646760" y="5548320"/>
                <a:ext cx="267840" cy="12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6" name=""/>
          <p:cNvSpPr/>
          <p:nvPr/>
        </p:nvSpPr>
        <p:spPr>
          <a:xfrm>
            <a:off x="5191200" y="2714760"/>
            <a:ext cx="46332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883560" y="5238720"/>
            <a:ext cx="731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6883560" y="4943520"/>
            <a:ext cx="731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02040" y="4632480"/>
            <a:ext cx="18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Rückmeld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808240" y="49752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2962080" y="5638680"/>
            <a:ext cx="4694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35200" y="4455360"/>
            <a:ext cx="276120" cy="659520"/>
            <a:chOff x="3535200" y="4455360"/>
            <a:chExt cx="276120" cy="659520"/>
          </a:xfrm>
        </p:grpSpPr>
        <p:sp>
          <p:nvSpPr>
            <p:cNvPr id="183" name=""/>
            <p:cNvSpPr/>
            <p:nvPr/>
          </p:nvSpPr>
          <p:spPr>
            <a:xfrm>
              <a:off x="3687120" y="4455360"/>
              <a:ext cx="0" cy="26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16200000">
              <a:off x="3476520" y="4780080"/>
              <a:ext cx="39348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 flipV="1">
              <a:off x="3542040" y="4842360"/>
              <a:ext cx="269280" cy="12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3817800" y="4896000"/>
            <a:ext cx="22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987720" y="46609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924680" y="5619600"/>
            <a:ext cx="37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297640" y="53910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312720" y="4905360"/>
            <a:ext cx="206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301920" y="4905360"/>
            <a:ext cx="0" cy="73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909880" y="5591160"/>
            <a:ext cx="8100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00280" y="5591160"/>
            <a:ext cx="8100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1868040" y="5629320"/>
            <a:ext cx="731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63200" y="53658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611440" y="5524560"/>
            <a:ext cx="371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786040" y="5324040"/>
            <a:ext cx="0" cy="1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>
            <a:hlinkClick r:id="" action="ppaction://hlinkshowjump?jump=nextslide"/>
          </p:cNvPr>
          <p:cNvSpPr/>
          <p:nvPr/>
        </p:nvSpPr>
        <p:spPr>
          <a:xfrm rot="5400000">
            <a:off x="2672280" y="5005800"/>
            <a:ext cx="243000" cy="346320"/>
          </a:xfrm>
          <a:custGeom>
            <a:avLst/>
            <a:gdLst>
              <a:gd name="textAreaLeft" fmla="*/ 15480 w 243000"/>
              <a:gd name="textAreaRight" fmla="*/ 227520 w 243000"/>
              <a:gd name="textAreaTop" fmla="*/ 15480 h 346320"/>
              <a:gd name="textAreaBottom" fmla="*/ 330840 h 346320"/>
            </a:gdLst>
            <a:ahLst/>
            <a:rect l="textAreaLeft" t="textAreaTop" r="textAreaRight" b="textAreaBottom"/>
            <a:pathLst>
              <a:path w="21600" h="30770">
                <a:moveTo>
                  <a:pt x="0" y="0"/>
                </a:moveTo>
                <a:lnTo>
                  <a:pt x="21600" y="0"/>
                </a:lnTo>
                <a:lnTo>
                  <a:pt x="21600" y="30770"/>
                </a:lnTo>
                <a:lnTo>
                  <a:pt x="0" y="30770"/>
                </a:lnTo>
                <a:close/>
              </a:path>
              <a:path fill="lightenLess" w="21600" h="3077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770">
                <a:moveTo>
                  <a:pt x="21600" y="0"/>
                </a:moveTo>
                <a:lnTo>
                  <a:pt x="21600" y="30770"/>
                </a:lnTo>
                <a:lnTo>
                  <a:pt x="20200" y="29370"/>
                </a:lnTo>
                <a:lnTo>
                  <a:pt x="20200" y="1400"/>
                </a:lnTo>
                <a:close/>
              </a:path>
              <a:path fill="darkenLess" w="21600" h="30770">
                <a:moveTo>
                  <a:pt x="21600" y="30770"/>
                </a:moveTo>
                <a:lnTo>
                  <a:pt x="0" y="30770"/>
                </a:lnTo>
                <a:lnTo>
                  <a:pt x="1400" y="29370"/>
                </a:lnTo>
                <a:lnTo>
                  <a:pt x="20200" y="29370"/>
                </a:lnTo>
                <a:close/>
              </a:path>
              <a:path fill="lighten" w="21600" h="30770">
                <a:moveTo>
                  <a:pt x="0" y="30770"/>
                </a:moveTo>
                <a:lnTo>
                  <a:pt x="0" y="0"/>
                </a:lnTo>
                <a:lnTo>
                  <a:pt x="1400" y="1400"/>
                </a:lnTo>
                <a:lnTo>
                  <a:pt x="1400" y="29370"/>
                </a:lnTo>
                <a:close/>
              </a:path>
              <a:path fill="darken" w="21600" h="30770">
                <a:moveTo>
                  <a:pt x="3794" y="8379"/>
                </a:moveTo>
                <a:lnTo>
                  <a:pt x="17806" y="15385"/>
                </a:lnTo>
                <a:lnTo>
                  <a:pt x="3794" y="2239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399520" y="2647800"/>
            <a:ext cx="96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369360" y="2657520"/>
            <a:ext cx="0" cy="19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7305840" y="4610160"/>
            <a:ext cx="206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316640" y="461016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90680" y="4448160"/>
            <a:ext cx="0" cy="118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03120" y="465120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Hier drüc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70080" y="5219640"/>
            <a:ext cx="12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2387520" y="4556160"/>
            <a:ext cx="591480" cy="365040"/>
            <a:chOff x="2387520" y="4556160"/>
            <a:chExt cx="591480" cy="365040"/>
          </a:xfrm>
        </p:grpSpPr>
        <p:grpSp>
          <p:nvGrpSpPr>
            <p:cNvPr id="207" name=""/>
            <p:cNvGrpSpPr/>
            <p:nvPr/>
          </p:nvGrpSpPr>
          <p:grpSpPr>
            <a:xfrm>
              <a:off x="2605320" y="4556160"/>
              <a:ext cx="373680" cy="365040"/>
              <a:chOff x="2605320" y="4556160"/>
              <a:chExt cx="373680" cy="365040"/>
            </a:xfrm>
          </p:grpSpPr>
          <p:sp>
            <p:nvSpPr>
              <p:cNvPr id="208" name=""/>
              <p:cNvSpPr/>
              <p:nvPr/>
            </p:nvSpPr>
            <p:spPr>
              <a:xfrm rot="5400000">
                <a:off x="2609640" y="4551840"/>
                <a:ext cx="365040" cy="373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9" name=""/>
              <p:cNvGrpSpPr/>
              <p:nvPr/>
            </p:nvGrpSpPr>
            <p:grpSpPr>
              <a:xfrm>
                <a:off x="2629080" y="4557960"/>
                <a:ext cx="325080" cy="361800"/>
                <a:chOff x="2629080" y="4557960"/>
                <a:chExt cx="325080" cy="361800"/>
              </a:xfrm>
            </p:grpSpPr>
            <p:sp>
              <p:nvSpPr>
                <p:cNvPr id="210" name=""/>
                <p:cNvSpPr/>
                <p:nvPr/>
              </p:nvSpPr>
              <p:spPr>
                <a:xfrm rot="336000">
                  <a:off x="2646000" y="4562280"/>
                  <a:ext cx="113040" cy="35244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flipH="1" rot="21264000">
                  <a:off x="2823480" y="4562640"/>
                  <a:ext cx="113400" cy="35244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2" name=""/>
            <p:cNvSpPr/>
            <p:nvPr/>
          </p:nvSpPr>
          <p:spPr>
            <a:xfrm flipH="1">
              <a:off x="2387520" y="4738680"/>
              <a:ext cx="216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3416400" y="4552920"/>
            <a:ext cx="504720" cy="752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450200" y="4772160"/>
            <a:ext cx="630000" cy="11714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416040" y="5391000"/>
            <a:ext cx="23652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67480" y="5765760"/>
            <a:ext cx="21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Weichenantrie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6562800" y="5810040"/>
            <a:ext cx="78408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048200" y="5661000"/>
            <a:ext cx="255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Ein Bistabiles Relais/Weiche</a:t>
            </a:r>
            <a:br>
              <a:rPr sz="2400"/>
            </a:br>
            <a:r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z.B. VSDM 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533520"/>
            <a:ext cx="99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Elektrische Anschlü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428880" y="3800160"/>
            <a:ext cx="1832400" cy="1289520"/>
            <a:chOff x="6428880" y="3800160"/>
            <a:chExt cx="1832400" cy="1289520"/>
          </a:xfrm>
        </p:grpSpPr>
        <p:sp>
          <p:nvSpPr>
            <p:cNvPr id="221" name=""/>
            <p:cNvSpPr/>
            <p:nvPr/>
          </p:nvSpPr>
          <p:spPr>
            <a:xfrm>
              <a:off x="7893000" y="5089680"/>
              <a:ext cx="36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8261280" y="4146480"/>
              <a:ext cx="0" cy="9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6428880" y="4146480"/>
              <a:ext cx="183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6429240" y="3800160"/>
              <a:ext cx="0" cy="34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8812080" y="3878280"/>
            <a:ext cx="55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533520"/>
            <a:ext cx="99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Elektrische Anschlü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3120" y="465120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Hier drüc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1101600" y="3627360"/>
            <a:ext cx="3401280" cy="340920"/>
            <a:chOff x="1101600" y="3627360"/>
            <a:chExt cx="3401280" cy="340920"/>
          </a:xfrm>
        </p:grpSpPr>
        <p:sp>
          <p:nvSpPr>
            <p:cNvPr id="229" name=""/>
            <p:cNvSpPr/>
            <p:nvPr/>
          </p:nvSpPr>
          <p:spPr>
            <a:xfrm>
              <a:off x="4280040" y="3627360"/>
              <a:ext cx="2228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101600" y="3968280"/>
              <a:ext cx="180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4506840" y="3576240"/>
            <a:ext cx="199800" cy="174600"/>
            <a:chOff x="4506840" y="3576240"/>
            <a:chExt cx="199800" cy="174600"/>
          </a:xfrm>
        </p:grpSpPr>
        <p:sp>
          <p:nvSpPr>
            <p:cNvPr id="232" name=""/>
            <p:cNvSpPr/>
            <p:nvPr/>
          </p:nvSpPr>
          <p:spPr>
            <a:xfrm flipV="1">
              <a:off x="4600080" y="3576240"/>
              <a:ext cx="1440" cy="174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36000" y="3625560"/>
              <a:ext cx="122040" cy="92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06840" y="3676320"/>
              <a:ext cx="199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4503600" y="4246200"/>
            <a:ext cx="199800" cy="174600"/>
            <a:chOff x="4503600" y="4246200"/>
            <a:chExt cx="199800" cy="174600"/>
          </a:xfrm>
        </p:grpSpPr>
        <p:sp>
          <p:nvSpPr>
            <p:cNvPr id="236" name=""/>
            <p:cNvSpPr/>
            <p:nvPr/>
          </p:nvSpPr>
          <p:spPr>
            <a:xfrm flipV="1">
              <a:off x="4596840" y="4246200"/>
              <a:ext cx="1440" cy="174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532760" y="4295520"/>
              <a:ext cx="122040" cy="92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03600" y="4346280"/>
              <a:ext cx="199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856800" y="2506680"/>
            <a:ext cx="7604280" cy="1455840"/>
            <a:chOff x="856800" y="2506680"/>
            <a:chExt cx="7604280" cy="1455840"/>
          </a:xfrm>
        </p:grpSpPr>
        <p:sp>
          <p:nvSpPr>
            <p:cNvPr id="240" name=""/>
            <p:cNvSpPr/>
            <p:nvPr/>
          </p:nvSpPr>
          <p:spPr>
            <a:xfrm flipH="1">
              <a:off x="874080" y="3854520"/>
              <a:ext cx="275040" cy="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 flipV="1">
              <a:off x="8085960" y="2604600"/>
              <a:ext cx="114480" cy="361440"/>
            </a:xfrm>
            <a:prstGeom prst="line">
              <a:avLst/>
            </a:prstGeom>
            <a:ln w="7632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8157960" y="2636640"/>
              <a:ext cx="262080" cy="828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856800" y="3749400"/>
              <a:ext cx="1619640" cy="468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2476800" y="3586320"/>
              <a:ext cx="2094480" cy="1634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4576320" y="2506680"/>
              <a:ext cx="3884760" cy="10764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175040" y="3749760"/>
              <a:ext cx="0" cy="212760"/>
            </a:xfrm>
            <a:prstGeom prst="line">
              <a:avLst/>
            </a:prstGeom>
            <a:ln w="7632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870120" y="4022640"/>
            <a:ext cx="7943400" cy="409680"/>
            <a:chOff x="870120" y="4022640"/>
            <a:chExt cx="7943400" cy="409680"/>
          </a:xfrm>
        </p:grpSpPr>
        <p:sp>
          <p:nvSpPr>
            <p:cNvPr id="248" name=""/>
            <p:cNvSpPr/>
            <p:nvPr/>
          </p:nvSpPr>
          <p:spPr>
            <a:xfrm flipH="1">
              <a:off x="878400" y="4427640"/>
              <a:ext cx="7932960" cy="324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176120" y="4022640"/>
              <a:ext cx="0" cy="408240"/>
            </a:xfrm>
            <a:prstGeom prst="line">
              <a:avLst/>
            </a:prstGeom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870120" y="4305240"/>
              <a:ext cx="275040" cy="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538480" y="4329000"/>
              <a:ext cx="275040" cy="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500680" y="4226040"/>
              <a:ext cx="0" cy="206280"/>
            </a:xfrm>
            <a:prstGeom prst="line">
              <a:avLst/>
            </a:prstGeom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 flipH="1">
            <a:off x="2673000" y="3741840"/>
            <a:ext cx="1909800" cy="8568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6273720" y="3790440"/>
            <a:ext cx="274680" cy="11160"/>
          </a:xfrm>
          <a:prstGeom prst="line">
            <a:avLst/>
          </a:prstGeom>
          <a:ln w="19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6262560" y="3715920"/>
            <a:ext cx="166680" cy="9720"/>
          </a:xfrm>
          <a:prstGeom prst="line">
            <a:avLst/>
          </a:prstGeom>
          <a:ln w="19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848640" y="3731760"/>
            <a:ext cx="1974600" cy="324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4640040" y="3735360"/>
            <a:ext cx="1633320" cy="32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4618080" y="3805200"/>
            <a:ext cx="1660320" cy="45072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521400" y="3797280"/>
            <a:ext cx="351000" cy="3240"/>
          </a:xfrm>
          <a:prstGeom prst="line">
            <a:avLst/>
          </a:prstGeom>
          <a:ln w="19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415200" y="3602160"/>
            <a:ext cx="376200" cy="110880"/>
          </a:xfrm>
          <a:prstGeom prst="line">
            <a:avLst/>
          </a:prstGeom>
          <a:ln w="19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8501040" y="3751200"/>
            <a:ext cx="0" cy="39528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541720" y="3878280"/>
            <a:ext cx="276120" cy="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8302680" y="3066480"/>
            <a:ext cx="263520" cy="8352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6816600" y="3130560"/>
            <a:ext cx="1830600" cy="51912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 flipV="1">
            <a:off x="8228880" y="3013200"/>
            <a:ext cx="64800" cy="20448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652480" y="4267080"/>
            <a:ext cx="1928520" cy="1526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7633080" y="4901760"/>
            <a:ext cx="288360" cy="919080"/>
            <a:chOff x="7633080" y="4901760"/>
            <a:chExt cx="288360" cy="919080"/>
          </a:xfrm>
        </p:grpSpPr>
        <p:sp>
          <p:nvSpPr>
            <p:cNvPr id="268" name=""/>
            <p:cNvSpPr/>
            <p:nvPr/>
          </p:nvSpPr>
          <p:spPr>
            <a:xfrm flipV="1" rot="16200000">
              <a:off x="7815600" y="5049360"/>
              <a:ext cx="74520" cy="82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6200000">
              <a:off x="7636680" y="4897440"/>
              <a:ext cx="74520" cy="82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6200000">
              <a:off x="7636680" y="5189400"/>
              <a:ext cx="74520" cy="82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7688160" y="5115960"/>
              <a:ext cx="144360" cy="10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7646760" y="5161320"/>
              <a:ext cx="274680" cy="659520"/>
              <a:chOff x="7646760" y="5161320"/>
              <a:chExt cx="274680" cy="659520"/>
            </a:xfrm>
          </p:grpSpPr>
          <p:sp>
            <p:nvSpPr>
              <p:cNvPr id="273" name=""/>
              <p:cNvSpPr/>
              <p:nvPr/>
            </p:nvSpPr>
            <p:spPr>
              <a:xfrm>
                <a:off x="7770600" y="5161320"/>
                <a:ext cx="0" cy="26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 rot="16200000">
                <a:off x="7587360" y="5486400"/>
                <a:ext cx="393480" cy="274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7646760" y="5548320"/>
                <a:ext cx="267840" cy="12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6" name=""/>
          <p:cNvSpPr/>
          <p:nvPr/>
        </p:nvSpPr>
        <p:spPr>
          <a:xfrm>
            <a:off x="5191200" y="2714760"/>
            <a:ext cx="46332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6883560" y="5238720"/>
            <a:ext cx="731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6883560" y="4943520"/>
            <a:ext cx="731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02040" y="4632480"/>
            <a:ext cx="18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Rückmeld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808240" y="49752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2962080" y="5638680"/>
            <a:ext cx="4694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3535200" y="4455360"/>
            <a:ext cx="276120" cy="659520"/>
            <a:chOff x="3535200" y="4455360"/>
            <a:chExt cx="276120" cy="659520"/>
          </a:xfrm>
        </p:grpSpPr>
        <p:sp>
          <p:nvSpPr>
            <p:cNvPr id="283" name=""/>
            <p:cNvSpPr/>
            <p:nvPr/>
          </p:nvSpPr>
          <p:spPr>
            <a:xfrm>
              <a:off x="3687120" y="4455360"/>
              <a:ext cx="0" cy="26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16200000">
              <a:off x="3476520" y="4780080"/>
              <a:ext cx="39348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 flipV="1">
              <a:off x="3542040" y="4842360"/>
              <a:ext cx="269280" cy="12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3817800" y="4896000"/>
            <a:ext cx="22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87720" y="46609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924680" y="5619600"/>
            <a:ext cx="22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094600" y="53848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3312720" y="4905360"/>
            <a:ext cx="206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301920" y="4905360"/>
            <a:ext cx="0" cy="73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909880" y="5591160"/>
            <a:ext cx="8100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600280" y="5591160"/>
            <a:ext cx="8100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1868040" y="5629320"/>
            <a:ext cx="731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63200" y="53658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611440" y="5524560"/>
            <a:ext cx="371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786040" y="5324040"/>
            <a:ext cx="0" cy="1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399520" y="2647800"/>
            <a:ext cx="96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369360" y="2657520"/>
            <a:ext cx="0" cy="19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7305840" y="4610160"/>
            <a:ext cx="206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316640" y="461016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90680" y="4448160"/>
            <a:ext cx="0" cy="118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70080" y="5219640"/>
            <a:ext cx="12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420200" y="2232000"/>
            <a:ext cx="54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Jetzt ist das Herzstück als Masse geschalt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2387520" y="4556160"/>
            <a:ext cx="591480" cy="365040"/>
            <a:chOff x="2387520" y="4556160"/>
            <a:chExt cx="591480" cy="365040"/>
          </a:xfrm>
        </p:grpSpPr>
        <p:grpSp>
          <p:nvGrpSpPr>
            <p:cNvPr id="306" name=""/>
            <p:cNvGrpSpPr/>
            <p:nvPr/>
          </p:nvGrpSpPr>
          <p:grpSpPr>
            <a:xfrm>
              <a:off x="2605320" y="4556160"/>
              <a:ext cx="373680" cy="365040"/>
              <a:chOff x="2605320" y="4556160"/>
              <a:chExt cx="373680" cy="365040"/>
            </a:xfrm>
          </p:grpSpPr>
          <p:sp>
            <p:nvSpPr>
              <p:cNvPr id="307" name=""/>
              <p:cNvSpPr/>
              <p:nvPr/>
            </p:nvSpPr>
            <p:spPr>
              <a:xfrm rot="5400000">
                <a:off x="2609640" y="4551840"/>
                <a:ext cx="365040" cy="373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8" name=""/>
              <p:cNvGrpSpPr/>
              <p:nvPr/>
            </p:nvGrpSpPr>
            <p:grpSpPr>
              <a:xfrm>
                <a:off x="2629080" y="4557960"/>
                <a:ext cx="325080" cy="361800"/>
                <a:chOff x="2629080" y="4557960"/>
                <a:chExt cx="325080" cy="361800"/>
              </a:xfrm>
            </p:grpSpPr>
            <p:sp>
              <p:nvSpPr>
                <p:cNvPr id="309" name=""/>
                <p:cNvSpPr/>
                <p:nvPr/>
              </p:nvSpPr>
              <p:spPr>
                <a:xfrm rot="336000">
                  <a:off x="2646000" y="4562280"/>
                  <a:ext cx="113040" cy="35244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flipH="1" rot="21264000">
                  <a:off x="2823480" y="4562640"/>
                  <a:ext cx="113400" cy="35244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1" name=""/>
            <p:cNvSpPr/>
            <p:nvPr/>
          </p:nvSpPr>
          <p:spPr>
            <a:xfrm flipH="1">
              <a:off x="2387520" y="4738680"/>
              <a:ext cx="216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6428880" y="3800160"/>
            <a:ext cx="1832400" cy="1289520"/>
            <a:chOff x="6428880" y="3800160"/>
            <a:chExt cx="1832400" cy="1289520"/>
          </a:xfrm>
        </p:grpSpPr>
        <p:sp>
          <p:nvSpPr>
            <p:cNvPr id="313" name=""/>
            <p:cNvSpPr/>
            <p:nvPr/>
          </p:nvSpPr>
          <p:spPr>
            <a:xfrm>
              <a:off x="7893000" y="5089680"/>
              <a:ext cx="36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8261280" y="4146480"/>
              <a:ext cx="0" cy="9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6428880" y="4146480"/>
              <a:ext cx="183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6429240" y="3800160"/>
              <a:ext cx="0" cy="34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8812080" y="3878280"/>
            <a:ext cx="55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>
            <a:hlinkClick r:id="" action="ppaction://hlinkshowjump?jump=nextslide"/>
          </p:cNvPr>
          <p:cNvSpPr/>
          <p:nvPr/>
        </p:nvSpPr>
        <p:spPr>
          <a:xfrm rot="5400000">
            <a:off x="2672280" y="5005800"/>
            <a:ext cx="243000" cy="346320"/>
          </a:xfrm>
          <a:custGeom>
            <a:avLst/>
            <a:gdLst>
              <a:gd name="textAreaLeft" fmla="*/ 15480 w 243000"/>
              <a:gd name="textAreaRight" fmla="*/ 227520 w 243000"/>
              <a:gd name="textAreaTop" fmla="*/ 15480 h 346320"/>
              <a:gd name="textAreaBottom" fmla="*/ 330840 h 346320"/>
            </a:gdLst>
            <a:ahLst/>
            <a:rect l="textAreaLeft" t="textAreaTop" r="textAreaRight" b="textAreaBottom"/>
            <a:pathLst>
              <a:path w="21600" h="30770">
                <a:moveTo>
                  <a:pt x="0" y="0"/>
                </a:moveTo>
                <a:lnTo>
                  <a:pt x="21600" y="0"/>
                </a:lnTo>
                <a:lnTo>
                  <a:pt x="21600" y="30770"/>
                </a:lnTo>
                <a:lnTo>
                  <a:pt x="0" y="30770"/>
                </a:lnTo>
                <a:close/>
              </a:path>
              <a:path fill="lightenLess" w="21600" h="3077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770">
                <a:moveTo>
                  <a:pt x="21600" y="0"/>
                </a:moveTo>
                <a:lnTo>
                  <a:pt x="21600" y="30770"/>
                </a:lnTo>
                <a:lnTo>
                  <a:pt x="20200" y="29370"/>
                </a:lnTo>
                <a:lnTo>
                  <a:pt x="20200" y="1400"/>
                </a:lnTo>
                <a:close/>
              </a:path>
              <a:path fill="darkenLess" w="21600" h="30770">
                <a:moveTo>
                  <a:pt x="21600" y="30770"/>
                </a:moveTo>
                <a:lnTo>
                  <a:pt x="0" y="30770"/>
                </a:lnTo>
                <a:lnTo>
                  <a:pt x="1400" y="29370"/>
                </a:lnTo>
                <a:lnTo>
                  <a:pt x="20200" y="29370"/>
                </a:lnTo>
                <a:close/>
              </a:path>
              <a:path fill="lighten" w="21600" h="30770">
                <a:moveTo>
                  <a:pt x="0" y="30770"/>
                </a:moveTo>
                <a:lnTo>
                  <a:pt x="0" y="0"/>
                </a:lnTo>
                <a:lnTo>
                  <a:pt x="1400" y="1400"/>
                </a:lnTo>
                <a:lnTo>
                  <a:pt x="1400" y="29370"/>
                </a:lnTo>
                <a:close/>
              </a:path>
              <a:path fill="darken" w="21600" h="30770">
                <a:moveTo>
                  <a:pt x="3794" y="8379"/>
                </a:moveTo>
                <a:lnTo>
                  <a:pt x="17806" y="15385"/>
                </a:lnTo>
                <a:lnTo>
                  <a:pt x="3794" y="2239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"/>
          <p:cNvGrpSpPr/>
          <p:nvPr/>
        </p:nvGrpSpPr>
        <p:grpSpPr>
          <a:xfrm>
            <a:off x="1101600" y="3627360"/>
            <a:ext cx="3401280" cy="340920"/>
            <a:chOff x="1101600" y="3627360"/>
            <a:chExt cx="3401280" cy="340920"/>
          </a:xfrm>
        </p:grpSpPr>
        <p:sp>
          <p:nvSpPr>
            <p:cNvPr id="320" name=""/>
            <p:cNvSpPr/>
            <p:nvPr/>
          </p:nvSpPr>
          <p:spPr>
            <a:xfrm>
              <a:off x="4280040" y="3627360"/>
              <a:ext cx="2228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101600" y="3968280"/>
              <a:ext cx="180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4506840" y="3576240"/>
            <a:ext cx="199800" cy="174600"/>
            <a:chOff x="4506840" y="3576240"/>
            <a:chExt cx="199800" cy="174600"/>
          </a:xfrm>
        </p:grpSpPr>
        <p:sp>
          <p:nvSpPr>
            <p:cNvPr id="323" name=""/>
            <p:cNvSpPr/>
            <p:nvPr/>
          </p:nvSpPr>
          <p:spPr>
            <a:xfrm flipV="1">
              <a:off x="4600080" y="3576240"/>
              <a:ext cx="1440" cy="174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536000" y="3625560"/>
              <a:ext cx="122040" cy="92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506840" y="3676320"/>
              <a:ext cx="199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4503600" y="4246200"/>
            <a:ext cx="199800" cy="174600"/>
            <a:chOff x="4503600" y="4246200"/>
            <a:chExt cx="199800" cy="174600"/>
          </a:xfrm>
        </p:grpSpPr>
        <p:sp>
          <p:nvSpPr>
            <p:cNvPr id="327" name=""/>
            <p:cNvSpPr/>
            <p:nvPr/>
          </p:nvSpPr>
          <p:spPr>
            <a:xfrm flipV="1">
              <a:off x="4596840" y="4246200"/>
              <a:ext cx="1440" cy="174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532760" y="4295520"/>
              <a:ext cx="122040" cy="92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503600" y="4346280"/>
              <a:ext cx="199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856800" y="2506680"/>
            <a:ext cx="7604280" cy="1455840"/>
            <a:chOff x="856800" y="2506680"/>
            <a:chExt cx="7604280" cy="1455840"/>
          </a:xfrm>
        </p:grpSpPr>
        <p:sp>
          <p:nvSpPr>
            <p:cNvPr id="331" name=""/>
            <p:cNvSpPr/>
            <p:nvPr/>
          </p:nvSpPr>
          <p:spPr>
            <a:xfrm flipH="1">
              <a:off x="874080" y="3854520"/>
              <a:ext cx="275040" cy="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 flipV="1">
              <a:off x="8085960" y="2604600"/>
              <a:ext cx="114480" cy="361440"/>
            </a:xfrm>
            <a:prstGeom prst="line">
              <a:avLst/>
            </a:prstGeom>
            <a:ln w="7632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8157960" y="2636640"/>
              <a:ext cx="262080" cy="828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 flipV="1">
              <a:off x="856800" y="3749400"/>
              <a:ext cx="1619640" cy="468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2476800" y="3586320"/>
              <a:ext cx="2094480" cy="1634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4576320" y="2506680"/>
              <a:ext cx="3884760" cy="10764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175040" y="3749760"/>
              <a:ext cx="0" cy="212760"/>
            </a:xfrm>
            <a:prstGeom prst="line">
              <a:avLst/>
            </a:prstGeom>
            <a:ln w="7632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870120" y="4022640"/>
            <a:ext cx="7943400" cy="409680"/>
            <a:chOff x="870120" y="4022640"/>
            <a:chExt cx="7943400" cy="409680"/>
          </a:xfrm>
        </p:grpSpPr>
        <p:sp>
          <p:nvSpPr>
            <p:cNvPr id="339" name=""/>
            <p:cNvSpPr/>
            <p:nvPr/>
          </p:nvSpPr>
          <p:spPr>
            <a:xfrm flipH="1">
              <a:off x="878400" y="4427640"/>
              <a:ext cx="7932960" cy="324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176120" y="4022640"/>
              <a:ext cx="0" cy="408240"/>
            </a:xfrm>
            <a:prstGeom prst="line">
              <a:avLst/>
            </a:prstGeom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870120" y="4305240"/>
              <a:ext cx="275040" cy="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538480" y="4329000"/>
              <a:ext cx="275040" cy="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500680" y="4226040"/>
              <a:ext cx="0" cy="206280"/>
            </a:xfrm>
            <a:prstGeom prst="line">
              <a:avLst/>
            </a:prstGeom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 flipV="1">
            <a:off x="6273720" y="3790440"/>
            <a:ext cx="274680" cy="1116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6262560" y="3715920"/>
            <a:ext cx="166680" cy="972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6848640" y="3731760"/>
            <a:ext cx="1974600" cy="324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4640040" y="3735360"/>
            <a:ext cx="1633320" cy="324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618080" y="3805200"/>
            <a:ext cx="1660320" cy="45072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521400" y="3797280"/>
            <a:ext cx="351000" cy="324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6415200" y="3602160"/>
            <a:ext cx="376200" cy="11088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8501040" y="3751200"/>
            <a:ext cx="0" cy="39528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541720" y="3878280"/>
            <a:ext cx="276120" cy="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8302680" y="3066480"/>
            <a:ext cx="263520" cy="8352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6816600" y="3130560"/>
            <a:ext cx="1830600" cy="51912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 flipV="1">
            <a:off x="8228880" y="3013200"/>
            <a:ext cx="64800" cy="20448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2693520" y="4267080"/>
            <a:ext cx="1887480" cy="7632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48920" y="2222640"/>
            <a:ext cx="640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Jetzt ist das Herzstück als Rückmeldung geschalt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 rot="16200000">
            <a:off x="7812720" y="5047920"/>
            <a:ext cx="74520" cy="82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 rot="16200000">
            <a:off x="7634880" y="4896000"/>
            <a:ext cx="74520" cy="82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 rot="16200000">
            <a:off x="7634880" y="5187960"/>
            <a:ext cx="74520" cy="82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684920" y="4957200"/>
            <a:ext cx="144720" cy="158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 rot="16200000">
            <a:off x="7583400" y="5484600"/>
            <a:ext cx="3938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7642080" y="5546880"/>
            <a:ext cx="268560" cy="12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91200" y="2714760"/>
            <a:ext cx="46332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853400" y="5086440"/>
            <a:ext cx="114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812080" y="3886200"/>
            <a:ext cx="17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8997840" y="3895560"/>
            <a:ext cx="0" cy="11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6883560" y="5238720"/>
            <a:ext cx="731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6883560" y="4943520"/>
            <a:ext cx="731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802040" y="4632480"/>
            <a:ext cx="18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Rückmeld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808240" y="49752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2962080" y="5638680"/>
            <a:ext cx="4694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3535200" y="4455360"/>
            <a:ext cx="276120" cy="659520"/>
            <a:chOff x="3535200" y="4455360"/>
            <a:chExt cx="276120" cy="659520"/>
          </a:xfrm>
        </p:grpSpPr>
        <p:sp>
          <p:nvSpPr>
            <p:cNvPr id="374" name=""/>
            <p:cNvSpPr/>
            <p:nvPr/>
          </p:nvSpPr>
          <p:spPr>
            <a:xfrm>
              <a:off x="3687120" y="4455360"/>
              <a:ext cx="0" cy="26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16200000">
              <a:off x="3476520" y="4780080"/>
              <a:ext cx="39348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 flipV="1">
              <a:off x="3542040" y="4842360"/>
              <a:ext cx="269280" cy="12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3817800" y="4896000"/>
            <a:ext cx="22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87720" y="46609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924680" y="5619600"/>
            <a:ext cx="22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094600" y="53848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312720" y="4905360"/>
            <a:ext cx="206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301920" y="4905360"/>
            <a:ext cx="0" cy="73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909880" y="5591160"/>
            <a:ext cx="8100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600280" y="5591160"/>
            <a:ext cx="8100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1868040" y="5629320"/>
            <a:ext cx="731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63200" y="53658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611440" y="5524560"/>
            <a:ext cx="371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2786040" y="5324040"/>
            <a:ext cx="0" cy="1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>
            <a:hlinkClick r:id="" action="ppaction://hlinkshowjump?jump=previousslide"/>
            <a:hlinkClick r:id="rId1"/>
          </p:cNvPr>
          <p:cNvSpPr/>
          <p:nvPr/>
        </p:nvSpPr>
        <p:spPr>
          <a:xfrm rot="5400000">
            <a:off x="2672280" y="5005800"/>
            <a:ext cx="243000" cy="346320"/>
          </a:xfrm>
          <a:custGeom>
            <a:avLst/>
            <a:gdLst>
              <a:gd name="textAreaLeft" fmla="*/ 15480 w 243000"/>
              <a:gd name="textAreaRight" fmla="*/ 227520 w 243000"/>
              <a:gd name="textAreaTop" fmla="*/ 15480 h 346320"/>
              <a:gd name="textAreaBottom" fmla="*/ 330840 h 346320"/>
            </a:gdLst>
            <a:ahLst/>
            <a:rect l="textAreaLeft" t="textAreaTop" r="textAreaRight" b="textAreaBottom"/>
            <a:pathLst>
              <a:path w="21600" h="30770">
                <a:moveTo>
                  <a:pt x="0" y="0"/>
                </a:moveTo>
                <a:lnTo>
                  <a:pt x="21600" y="0"/>
                </a:lnTo>
                <a:lnTo>
                  <a:pt x="21600" y="30770"/>
                </a:lnTo>
                <a:lnTo>
                  <a:pt x="0" y="30770"/>
                </a:lnTo>
                <a:close/>
              </a:path>
              <a:path fill="lightenLess" w="21600" h="3077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770">
                <a:moveTo>
                  <a:pt x="21600" y="0"/>
                </a:moveTo>
                <a:lnTo>
                  <a:pt x="21600" y="30770"/>
                </a:lnTo>
                <a:lnTo>
                  <a:pt x="20200" y="29370"/>
                </a:lnTo>
                <a:lnTo>
                  <a:pt x="20200" y="1400"/>
                </a:lnTo>
                <a:close/>
              </a:path>
              <a:path fill="darkenLess" w="21600" h="30770">
                <a:moveTo>
                  <a:pt x="21600" y="30770"/>
                </a:moveTo>
                <a:lnTo>
                  <a:pt x="0" y="30770"/>
                </a:lnTo>
                <a:lnTo>
                  <a:pt x="1400" y="29370"/>
                </a:lnTo>
                <a:lnTo>
                  <a:pt x="20200" y="29370"/>
                </a:lnTo>
                <a:close/>
              </a:path>
              <a:path fill="lighten" w="21600" h="30770">
                <a:moveTo>
                  <a:pt x="0" y="30770"/>
                </a:moveTo>
                <a:lnTo>
                  <a:pt x="0" y="0"/>
                </a:lnTo>
                <a:lnTo>
                  <a:pt x="1400" y="1400"/>
                </a:lnTo>
                <a:lnTo>
                  <a:pt x="1400" y="29370"/>
                </a:lnTo>
                <a:close/>
              </a:path>
              <a:path fill="darken" w="21600" h="30770">
                <a:moveTo>
                  <a:pt x="3794" y="8379"/>
                </a:moveTo>
                <a:lnTo>
                  <a:pt x="17806" y="15385"/>
                </a:lnTo>
                <a:lnTo>
                  <a:pt x="3794" y="2239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399520" y="2647800"/>
            <a:ext cx="96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9369360" y="2657520"/>
            <a:ext cx="0" cy="19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7305840" y="4610160"/>
            <a:ext cx="206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316640" y="461016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290680" y="4448160"/>
            <a:ext cx="0" cy="118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3120" y="465120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Hier drüc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70080" y="5219640"/>
            <a:ext cx="12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2661840" y="3733920"/>
            <a:ext cx="1940040" cy="936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780320" y="5029200"/>
            <a:ext cx="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2394000" y="4743360"/>
            <a:ext cx="570960" cy="152640"/>
            <a:chOff x="2394000" y="4743360"/>
            <a:chExt cx="570960" cy="152640"/>
          </a:xfrm>
        </p:grpSpPr>
        <p:sp>
          <p:nvSpPr>
            <p:cNvPr id="400" name=""/>
            <p:cNvSpPr/>
            <p:nvPr/>
          </p:nvSpPr>
          <p:spPr>
            <a:xfrm>
              <a:off x="2610720" y="4743360"/>
              <a:ext cx="354240" cy="152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2394000" y="4827600"/>
              <a:ext cx="216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0" y="533520"/>
            <a:ext cx="99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Elektrische Anschlü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1394640" y="387360"/>
            <a:ext cx="774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Einbindung in einer Fahrstrasse (A - D) - Einfahrt nach rec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9502920" y="33051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 rot="16200000">
            <a:off x="3115800" y="3808080"/>
            <a:ext cx="38160" cy="41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 rot="16200000">
            <a:off x="3027960" y="3730680"/>
            <a:ext cx="36360" cy="41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 rot="16200000">
            <a:off x="3026880" y="3877920"/>
            <a:ext cx="38160" cy="41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 rot="16200000">
            <a:off x="3001320" y="4026600"/>
            <a:ext cx="196560" cy="13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3030480" y="4057200"/>
            <a:ext cx="13500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 rot="16200000">
            <a:off x="7086600" y="3808440"/>
            <a:ext cx="38160" cy="41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 rot="16200000">
            <a:off x="6996600" y="3730680"/>
            <a:ext cx="36360" cy="41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V="1" rot="16200000">
            <a:off x="6995520" y="3877920"/>
            <a:ext cx="38160" cy="41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 rot="16200000">
            <a:off x="6969960" y="4026600"/>
            <a:ext cx="196560" cy="13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6999120" y="4057200"/>
            <a:ext cx="13500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2867040" y="3762360"/>
            <a:ext cx="185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867040" y="376236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867040" y="4524480"/>
            <a:ext cx="397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6837120" y="3754440"/>
            <a:ext cx="16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6899400" y="3902040"/>
            <a:ext cx="1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899400" y="3902040"/>
            <a:ext cx="0" cy="74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2950920" y="3902040"/>
            <a:ext cx="7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951280" y="3902040"/>
            <a:ext cx="0" cy="74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951280" y="4643280"/>
            <a:ext cx="39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867040" y="4753080"/>
            <a:ext cx="4143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065480" y="4645080"/>
            <a:ext cx="4143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817000" y="489888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u Rückmeld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16480" y="4753080"/>
            <a:ext cx="63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>
            <a:hlinkClick r:id="rId1" action="ppaction://hlinksldjump"/>
          </p:cNvPr>
          <p:cNvSpPr/>
          <p:nvPr/>
        </p:nvSpPr>
        <p:spPr>
          <a:xfrm>
            <a:off x="4172040" y="5510160"/>
            <a:ext cx="129960" cy="160560"/>
          </a:xfrm>
          <a:custGeom>
            <a:avLst/>
            <a:gdLst>
              <a:gd name="textAreaLeft" fmla="*/ 8280 w 129960"/>
              <a:gd name="textAreaRight" fmla="*/ 121680 w 129960"/>
              <a:gd name="textAreaTop" fmla="*/ 8280 h 160560"/>
              <a:gd name="textAreaBottom" fmla="*/ 152280 h 160560"/>
            </a:gdLst>
            <a:ahLst/>
            <a:rect l="textAreaLeft" t="textAreaTop" r="textAreaRight" b="textAreaBottom"/>
            <a:pathLst>
              <a:path w="21600" h="26672">
                <a:moveTo>
                  <a:pt x="0" y="0"/>
                </a:moveTo>
                <a:lnTo>
                  <a:pt x="21600" y="0"/>
                </a:lnTo>
                <a:lnTo>
                  <a:pt x="21600" y="26672"/>
                </a:lnTo>
                <a:lnTo>
                  <a:pt x="0" y="26672"/>
                </a:lnTo>
                <a:close/>
              </a:path>
              <a:path fill="lightenLess" w="21600" h="266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672">
                <a:moveTo>
                  <a:pt x="21600" y="0"/>
                </a:moveTo>
                <a:lnTo>
                  <a:pt x="21600" y="26672"/>
                </a:lnTo>
                <a:lnTo>
                  <a:pt x="20200" y="25272"/>
                </a:lnTo>
                <a:lnTo>
                  <a:pt x="20200" y="1400"/>
                </a:lnTo>
                <a:close/>
              </a:path>
              <a:path fill="darkenLess" w="21600" h="26672">
                <a:moveTo>
                  <a:pt x="21600" y="26672"/>
                </a:moveTo>
                <a:lnTo>
                  <a:pt x="0" y="26672"/>
                </a:lnTo>
                <a:lnTo>
                  <a:pt x="1400" y="25272"/>
                </a:lnTo>
                <a:lnTo>
                  <a:pt x="20200" y="25272"/>
                </a:lnTo>
                <a:close/>
              </a:path>
              <a:path fill="lighten" w="21600" h="26672">
                <a:moveTo>
                  <a:pt x="0" y="266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272"/>
                </a:lnTo>
                <a:close/>
              </a:path>
              <a:path fill="darken" w="21600" h="26672">
                <a:moveTo>
                  <a:pt x="3794" y="6329"/>
                </a:moveTo>
                <a:lnTo>
                  <a:pt x="17806" y="13336"/>
                </a:lnTo>
                <a:lnTo>
                  <a:pt x="3794" y="2034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>
            <a:hlinkClick r:id="rId2" action="ppaction://hlinksldjump"/>
          </p:cNvPr>
          <p:cNvSpPr/>
          <p:nvPr/>
        </p:nvSpPr>
        <p:spPr>
          <a:xfrm>
            <a:off x="4172040" y="5749920"/>
            <a:ext cx="129960" cy="160200"/>
          </a:xfrm>
          <a:custGeom>
            <a:avLst/>
            <a:gdLst>
              <a:gd name="textAreaLeft" fmla="*/ 8280 w 129960"/>
              <a:gd name="textAreaRight" fmla="*/ 121680 w 129960"/>
              <a:gd name="textAreaTop" fmla="*/ 8280 h 160200"/>
              <a:gd name="textAreaBottom" fmla="*/ 151920 h 160200"/>
            </a:gdLst>
            <a:ahLst/>
            <a:rect l="textAreaLeft" t="textAreaTop" r="textAreaRight" b="textAreaBottom"/>
            <a:pathLst>
              <a:path w="21600" h="26612">
                <a:moveTo>
                  <a:pt x="0" y="0"/>
                </a:moveTo>
                <a:lnTo>
                  <a:pt x="21600" y="0"/>
                </a:lnTo>
                <a:lnTo>
                  <a:pt x="21600" y="26612"/>
                </a:lnTo>
                <a:lnTo>
                  <a:pt x="0" y="26612"/>
                </a:lnTo>
                <a:close/>
              </a:path>
              <a:path fill="lightenLess" w="21600" h="266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612">
                <a:moveTo>
                  <a:pt x="21600" y="0"/>
                </a:moveTo>
                <a:lnTo>
                  <a:pt x="21600" y="26612"/>
                </a:lnTo>
                <a:lnTo>
                  <a:pt x="20200" y="25212"/>
                </a:lnTo>
                <a:lnTo>
                  <a:pt x="20200" y="1400"/>
                </a:lnTo>
                <a:close/>
              </a:path>
              <a:path fill="darkenLess" w="21600" h="26612">
                <a:moveTo>
                  <a:pt x="21600" y="26612"/>
                </a:moveTo>
                <a:lnTo>
                  <a:pt x="0" y="26612"/>
                </a:lnTo>
                <a:lnTo>
                  <a:pt x="1400" y="25212"/>
                </a:lnTo>
                <a:lnTo>
                  <a:pt x="20200" y="25212"/>
                </a:lnTo>
                <a:close/>
              </a:path>
              <a:path fill="lighten" w="21600" h="26612">
                <a:moveTo>
                  <a:pt x="0" y="266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212"/>
                </a:lnTo>
                <a:close/>
              </a:path>
              <a:path fill="darken" w="21600" h="26612">
                <a:moveTo>
                  <a:pt x="3794" y="6300"/>
                </a:moveTo>
                <a:lnTo>
                  <a:pt x="17806" y="13306"/>
                </a:lnTo>
                <a:lnTo>
                  <a:pt x="3794" y="2031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>
            <a:hlinkClick r:id="rId3" action="ppaction://hlinksldjump"/>
          </p:cNvPr>
          <p:cNvSpPr/>
          <p:nvPr/>
        </p:nvSpPr>
        <p:spPr>
          <a:xfrm>
            <a:off x="4172040" y="5991120"/>
            <a:ext cx="129960" cy="160560"/>
          </a:xfrm>
          <a:custGeom>
            <a:avLst/>
            <a:gdLst>
              <a:gd name="textAreaLeft" fmla="*/ 8280 w 129960"/>
              <a:gd name="textAreaRight" fmla="*/ 121680 w 129960"/>
              <a:gd name="textAreaTop" fmla="*/ 8280 h 160560"/>
              <a:gd name="textAreaBottom" fmla="*/ 152280 h 160560"/>
            </a:gdLst>
            <a:ahLst/>
            <a:rect l="textAreaLeft" t="textAreaTop" r="textAreaRight" b="textAreaBottom"/>
            <a:pathLst>
              <a:path w="21600" h="26672">
                <a:moveTo>
                  <a:pt x="0" y="0"/>
                </a:moveTo>
                <a:lnTo>
                  <a:pt x="21600" y="0"/>
                </a:lnTo>
                <a:lnTo>
                  <a:pt x="21600" y="26672"/>
                </a:lnTo>
                <a:lnTo>
                  <a:pt x="0" y="26672"/>
                </a:lnTo>
                <a:close/>
              </a:path>
              <a:path fill="lightenLess" w="21600" h="266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672">
                <a:moveTo>
                  <a:pt x="21600" y="0"/>
                </a:moveTo>
                <a:lnTo>
                  <a:pt x="21600" y="26672"/>
                </a:lnTo>
                <a:lnTo>
                  <a:pt x="20200" y="25272"/>
                </a:lnTo>
                <a:lnTo>
                  <a:pt x="20200" y="1400"/>
                </a:lnTo>
                <a:close/>
              </a:path>
              <a:path fill="darkenLess" w="21600" h="26672">
                <a:moveTo>
                  <a:pt x="21600" y="26672"/>
                </a:moveTo>
                <a:lnTo>
                  <a:pt x="0" y="26672"/>
                </a:lnTo>
                <a:lnTo>
                  <a:pt x="1400" y="25272"/>
                </a:lnTo>
                <a:lnTo>
                  <a:pt x="20200" y="25272"/>
                </a:lnTo>
                <a:close/>
              </a:path>
              <a:path fill="lighten" w="21600" h="26672">
                <a:moveTo>
                  <a:pt x="0" y="266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272"/>
                </a:lnTo>
                <a:close/>
              </a:path>
              <a:path fill="darken" w="21600" h="26672">
                <a:moveTo>
                  <a:pt x="3794" y="6329"/>
                </a:moveTo>
                <a:lnTo>
                  <a:pt x="17806" y="13336"/>
                </a:lnTo>
                <a:lnTo>
                  <a:pt x="3794" y="2034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365720" y="5410080"/>
            <a:ext cx="143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Fahrstrasse A - 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365720" y="5665680"/>
            <a:ext cx="142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Fahrstrasse A -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365720" y="5919840"/>
            <a:ext cx="142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Fahrstrasse A -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54440" y="2371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853920" y="2617920"/>
            <a:ext cx="1704600" cy="171360"/>
            <a:chOff x="853920" y="2617920"/>
            <a:chExt cx="1704600" cy="171360"/>
          </a:xfrm>
        </p:grpSpPr>
        <p:sp>
          <p:nvSpPr>
            <p:cNvPr id="436" name=""/>
            <p:cNvSpPr/>
            <p:nvPr/>
          </p:nvSpPr>
          <p:spPr>
            <a:xfrm>
              <a:off x="2446920" y="2789280"/>
              <a:ext cx="111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53920" y="2617920"/>
              <a:ext cx="90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2560680" y="2727360"/>
            <a:ext cx="100080" cy="87120"/>
            <a:chOff x="2560680" y="2727360"/>
            <a:chExt cx="100080" cy="87120"/>
          </a:xfrm>
        </p:grpSpPr>
        <p:sp>
          <p:nvSpPr>
            <p:cNvPr id="439" name=""/>
            <p:cNvSpPr/>
            <p:nvPr/>
          </p:nvSpPr>
          <p:spPr>
            <a:xfrm>
              <a:off x="2607120" y="2727360"/>
              <a:ext cx="720" cy="8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2575080" y="2743920"/>
              <a:ext cx="6120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560680" y="2764800"/>
              <a:ext cx="1000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2558880" y="2390760"/>
            <a:ext cx="100080" cy="87480"/>
            <a:chOff x="2558880" y="2390760"/>
            <a:chExt cx="100080" cy="87480"/>
          </a:xfrm>
        </p:grpSpPr>
        <p:sp>
          <p:nvSpPr>
            <p:cNvPr id="443" name=""/>
            <p:cNvSpPr/>
            <p:nvPr/>
          </p:nvSpPr>
          <p:spPr>
            <a:xfrm>
              <a:off x="2605320" y="2390760"/>
              <a:ext cx="720" cy="87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2573280" y="2407320"/>
              <a:ext cx="6120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558880" y="2427840"/>
              <a:ext cx="1000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6" name=""/>
          <p:cNvSpPr/>
          <p:nvPr/>
        </p:nvSpPr>
        <p:spPr>
          <a:xfrm flipH="1">
            <a:off x="741240" y="2674800"/>
            <a:ext cx="138240" cy="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4350960" y="3118320"/>
            <a:ext cx="57600" cy="18180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388760" y="3243240"/>
            <a:ext cx="129960" cy="4104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733320" y="2725560"/>
            <a:ext cx="811440" cy="180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544760" y="2727360"/>
            <a:ext cx="1047600" cy="8244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595600" y="2811600"/>
            <a:ext cx="1944720" cy="53820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892080" y="2620800"/>
            <a:ext cx="0" cy="10656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 flipV="1">
            <a:off x="744480" y="2386080"/>
            <a:ext cx="3968640" cy="144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892080" y="2385720"/>
            <a:ext cx="0" cy="2048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739800" y="2449440"/>
            <a:ext cx="138240" cy="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4559400" y="2386080"/>
            <a:ext cx="0" cy="10296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732120" y="2733840"/>
            <a:ext cx="1781280" cy="288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559400" y="2529000"/>
            <a:ext cx="0" cy="19656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579200" y="2662200"/>
            <a:ext cx="244440" cy="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460040" y="3055680"/>
            <a:ext cx="122760" cy="3888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920" bIns="-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716280" y="2776680"/>
            <a:ext cx="917640" cy="26028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4422600" y="2993400"/>
            <a:ext cx="32400" cy="10296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1609560" y="2154240"/>
            <a:ext cx="177840" cy="76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1501560" y="2187720"/>
            <a:ext cx="107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633920" y="3036960"/>
            <a:ext cx="915840" cy="26028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543560" y="3349800"/>
            <a:ext cx="917280" cy="26028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518000" y="3276360"/>
            <a:ext cx="131760" cy="4176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4655880" y="3202560"/>
            <a:ext cx="57600" cy="18180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4728960" y="3074400"/>
            <a:ext cx="32400" cy="10296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593600" y="3092400"/>
            <a:ext cx="129960" cy="4104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559480" y="3271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949240" y="2371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585280" y="3033720"/>
            <a:ext cx="915840" cy="26028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496360" y="3346560"/>
            <a:ext cx="915840" cy="26028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4824360" y="2617920"/>
            <a:ext cx="1703160" cy="171360"/>
            <a:chOff x="4824360" y="2617920"/>
            <a:chExt cx="1703160" cy="171360"/>
          </a:xfrm>
        </p:grpSpPr>
        <p:sp>
          <p:nvSpPr>
            <p:cNvPr id="476" name=""/>
            <p:cNvSpPr/>
            <p:nvPr/>
          </p:nvSpPr>
          <p:spPr>
            <a:xfrm>
              <a:off x="6415920" y="2789280"/>
              <a:ext cx="111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824360" y="2617920"/>
              <a:ext cx="90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6529320" y="2727360"/>
            <a:ext cx="100080" cy="87120"/>
            <a:chOff x="6529320" y="2727360"/>
            <a:chExt cx="100080" cy="87120"/>
          </a:xfrm>
        </p:grpSpPr>
        <p:sp>
          <p:nvSpPr>
            <p:cNvPr id="479" name=""/>
            <p:cNvSpPr/>
            <p:nvPr/>
          </p:nvSpPr>
          <p:spPr>
            <a:xfrm>
              <a:off x="6575760" y="2727360"/>
              <a:ext cx="720" cy="8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>
              <a:off x="6543720" y="2743920"/>
              <a:ext cx="6120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529320" y="2764800"/>
              <a:ext cx="1000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6527880" y="2390760"/>
            <a:ext cx="100080" cy="87480"/>
            <a:chOff x="6527880" y="2390760"/>
            <a:chExt cx="100080" cy="87480"/>
          </a:xfrm>
        </p:grpSpPr>
        <p:sp>
          <p:nvSpPr>
            <p:cNvPr id="483" name=""/>
            <p:cNvSpPr/>
            <p:nvPr/>
          </p:nvSpPr>
          <p:spPr>
            <a:xfrm>
              <a:off x="6574320" y="2390760"/>
              <a:ext cx="720" cy="87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6542280" y="2407320"/>
              <a:ext cx="6120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527880" y="2427840"/>
              <a:ext cx="1000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6" name=""/>
          <p:cNvSpPr/>
          <p:nvPr/>
        </p:nvSpPr>
        <p:spPr>
          <a:xfrm flipH="1">
            <a:off x="8321400" y="3118320"/>
            <a:ext cx="57600" cy="18180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8358120" y="3242880"/>
            <a:ext cx="131760" cy="4176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513400" y="2727360"/>
            <a:ext cx="1047600" cy="8244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564240" y="2811600"/>
            <a:ext cx="1944720" cy="53820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4862520" y="2620800"/>
            <a:ext cx="0" cy="10656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 flipV="1">
            <a:off x="4712760" y="2386080"/>
            <a:ext cx="3970440" cy="144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4862520" y="2385720"/>
            <a:ext cx="0" cy="2048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4592520" y="2449440"/>
            <a:ext cx="254160" cy="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547120" y="2436840"/>
            <a:ext cx="138240" cy="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8528040" y="2386080"/>
            <a:ext cx="0" cy="10296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413480" y="2700360"/>
            <a:ext cx="138240" cy="6480"/>
          </a:xfrm>
          <a:prstGeom prst="line">
            <a:avLst/>
          </a:prstGeom>
          <a:ln w="19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408800" y="2738520"/>
            <a:ext cx="82440" cy="4680"/>
          </a:xfrm>
          <a:prstGeom prst="line">
            <a:avLst/>
          </a:prstGeom>
          <a:ln w="19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701120" y="2733840"/>
            <a:ext cx="988920" cy="14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flipV="1">
            <a:off x="6597720" y="2731680"/>
            <a:ext cx="815760" cy="180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H="1" flipV="1">
            <a:off x="6585120" y="2472840"/>
            <a:ext cx="830160" cy="22572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7537320" y="2701440"/>
            <a:ext cx="176400" cy="1800"/>
          </a:xfrm>
          <a:prstGeom prst="line">
            <a:avLst/>
          </a:prstGeom>
          <a:ln w="19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485120" y="2744640"/>
            <a:ext cx="189000" cy="57240"/>
          </a:xfrm>
          <a:prstGeom prst="line">
            <a:avLst/>
          </a:prstGeom>
          <a:ln w="19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8528040" y="2529000"/>
            <a:ext cx="0" cy="19656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8548560" y="2662200"/>
            <a:ext cx="138240" cy="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8428680" y="3054960"/>
            <a:ext cx="124200" cy="3924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560" bIns="-7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684920" y="2776680"/>
            <a:ext cx="917640" cy="26028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8391240" y="2993400"/>
            <a:ext cx="32400" cy="10296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5619240" y="2430360"/>
            <a:ext cx="946440" cy="3816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 flipV="1">
            <a:off x="5605560" y="2730240"/>
            <a:ext cx="971280" cy="468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5470200" y="2154240"/>
            <a:ext cx="285840" cy="76320"/>
            <a:chOff x="5470200" y="2154240"/>
            <a:chExt cx="285840" cy="76320"/>
          </a:xfrm>
        </p:grpSpPr>
        <p:sp>
          <p:nvSpPr>
            <p:cNvPr id="511" name=""/>
            <p:cNvSpPr/>
            <p:nvPr/>
          </p:nvSpPr>
          <p:spPr>
            <a:xfrm flipV="1">
              <a:off x="5578920" y="2154240"/>
              <a:ext cx="177120" cy="76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5470200" y="2188440"/>
              <a:ext cx="108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3" name=""/>
          <p:cNvSpPr/>
          <p:nvPr/>
        </p:nvSpPr>
        <p:spPr>
          <a:xfrm>
            <a:off x="8496360" y="3279600"/>
            <a:ext cx="131760" cy="4176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8634240" y="3206160"/>
            <a:ext cx="57600" cy="18216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8706960" y="3076920"/>
            <a:ext cx="32400" cy="10260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8571960" y="3095640"/>
            <a:ext cx="129960" cy="4104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 rot="1077000">
            <a:off x="5470200" y="3263400"/>
            <a:ext cx="103320" cy="745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2266560" y="1752480"/>
            <a:ext cx="1180080" cy="307080"/>
            <a:chOff x="2266560" y="1752480"/>
            <a:chExt cx="1180080" cy="307080"/>
          </a:xfrm>
        </p:grpSpPr>
        <p:sp>
          <p:nvSpPr>
            <p:cNvPr id="519" name=""/>
            <p:cNvSpPr/>
            <p:nvPr/>
          </p:nvSpPr>
          <p:spPr>
            <a:xfrm>
              <a:off x="2266560" y="1752480"/>
              <a:ext cx="115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400" spc="-1" strike="noStrike">
                  <a:solidFill>
                    <a:srgbClr val="000000"/>
                  </a:solidFill>
                  <a:latin typeface="Times New Roman"/>
                </a:rPr>
                <a:t>Fahrtrichtu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340000" y="2057040"/>
              <a:ext cx="110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1" name=""/>
          <p:cNvSpPr/>
          <p:nvPr/>
        </p:nvSpPr>
        <p:spPr>
          <a:xfrm>
            <a:off x="4623120" y="2953440"/>
            <a:ext cx="1005840" cy="29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rot="994800">
            <a:off x="4820040" y="289368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il mitneh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V="1" rot="1077000">
            <a:off x="9432720" y="3267720"/>
            <a:ext cx="102960" cy="745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837480" y="3754440"/>
            <a:ext cx="0" cy="77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7120080" y="2744640"/>
            <a:ext cx="371160" cy="1084320"/>
            <a:chOff x="7120080" y="2744640"/>
            <a:chExt cx="371160" cy="1084320"/>
          </a:xfrm>
        </p:grpSpPr>
        <p:sp>
          <p:nvSpPr>
            <p:cNvPr id="526" name=""/>
            <p:cNvSpPr/>
            <p:nvPr/>
          </p:nvSpPr>
          <p:spPr>
            <a:xfrm>
              <a:off x="7120080" y="3828960"/>
              <a:ext cx="37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V="1">
              <a:off x="7491240" y="2744640"/>
              <a:ext cx="0" cy="108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8" name=""/>
          <p:cNvSpPr/>
          <p:nvPr/>
        </p:nvSpPr>
        <p:spPr>
          <a:xfrm>
            <a:off x="8426520" y="3071880"/>
            <a:ext cx="0" cy="145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837480" y="4524480"/>
            <a:ext cx="1589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479840" y="3071880"/>
            <a:ext cx="0" cy="145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3165480" y="2744640"/>
            <a:ext cx="371160" cy="1084320"/>
            <a:chOff x="3165480" y="2744640"/>
            <a:chExt cx="371160" cy="1084320"/>
          </a:xfrm>
        </p:grpSpPr>
        <p:sp>
          <p:nvSpPr>
            <p:cNvPr id="532" name=""/>
            <p:cNvSpPr/>
            <p:nvPr/>
          </p:nvSpPr>
          <p:spPr>
            <a:xfrm>
              <a:off x="3165480" y="3828960"/>
              <a:ext cx="37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3536640" y="2744640"/>
              <a:ext cx="0" cy="108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"/>
          <p:cNvSpPr/>
          <p:nvPr/>
        </p:nvSpPr>
        <p:spPr>
          <a:xfrm>
            <a:off x="3444840" y="2700360"/>
            <a:ext cx="138240" cy="6480"/>
          </a:xfrm>
          <a:prstGeom prst="line">
            <a:avLst/>
          </a:prstGeom>
          <a:ln w="19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440160" y="2738520"/>
            <a:ext cx="82440" cy="4680"/>
          </a:xfrm>
          <a:prstGeom prst="line">
            <a:avLst/>
          </a:prstGeom>
          <a:ln w="19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2626920" y="2731680"/>
            <a:ext cx="817560" cy="180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H="1" flipV="1">
            <a:off x="2615760" y="2472840"/>
            <a:ext cx="830520" cy="22572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3568680" y="2701440"/>
            <a:ext cx="174600" cy="1800"/>
          </a:xfrm>
          <a:prstGeom prst="line">
            <a:avLst/>
          </a:prstGeom>
          <a:ln w="19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514680" y="2744640"/>
            <a:ext cx="190440" cy="57240"/>
          </a:xfrm>
          <a:prstGeom prst="line">
            <a:avLst/>
          </a:prstGeom>
          <a:ln w="19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 flipV="1">
            <a:off x="1650960" y="2430360"/>
            <a:ext cx="946080" cy="3816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 flipV="1">
            <a:off x="1634760" y="2730240"/>
            <a:ext cx="971640" cy="468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3062160" y="3843360"/>
            <a:ext cx="57240" cy="47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095640" y="3867120"/>
            <a:ext cx="0" cy="12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7029360" y="3841920"/>
            <a:ext cx="57240" cy="48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058160" y="3867120"/>
            <a:ext cx="0" cy="12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1394280" y="387360"/>
            <a:ext cx="77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Einbindung in einer Fahrstrasse (A - B) - Einfahrt nach rec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9502920" y="33051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 rot="16200000">
            <a:off x="3115800" y="3808080"/>
            <a:ext cx="38160" cy="41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 rot="16200000">
            <a:off x="3027960" y="3730680"/>
            <a:ext cx="36360" cy="41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V="1" rot="16200000">
            <a:off x="3026880" y="3877920"/>
            <a:ext cx="38160" cy="41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 rot="16200000">
            <a:off x="3001320" y="4026600"/>
            <a:ext cx="196560" cy="13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3030480" y="4057200"/>
            <a:ext cx="13500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 rot="16200000">
            <a:off x="7086600" y="3808440"/>
            <a:ext cx="38160" cy="41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 rot="16200000">
            <a:off x="6996600" y="3730680"/>
            <a:ext cx="36360" cy="41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 rot="16200000">
            <a:off x="6995520" y="3877920"/>
            <a:ext cx="38160" cy="41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 rot="16200000">
            <a:off x="6969960" y="4026600"/>
            <a:ext cx="196560" cy="13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6999120" y="4057200"/>
            <a:ext cx="13500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867040" y="3762360"/>
            <a:ext cx="185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867040" y="376236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867040" y="4524480"/>
            <a:ext cx="397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6837120" y="3754440"/>
            <a:ext cx="16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6899400" y="3902040"/>
            <a:ext cx="1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899400" y="3902040"/>
            <a:ext cx="0" cy="74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2950920" y="3902040"/>
            <a:ext cx="7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951280" y="3902040"/>
            <a:ext cx="0" cy="74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951280" y="4643280"/>
            <a:ext cx="39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867040" y="4753080"/>
            <a:ext cx="4143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065480" y="4645080"/>
            <a:ext cx="4143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817000" y="489888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u Rückmeld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416480" y="4753080"/>
            <a:ext cx="63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54440" y="2371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853920" y="2617920"/>
            <a:ext cx="1704600" cy="171360"/>
            <a:chOff x="853920" y="2617920"/>
            <a:chExt cx="1704600" cy="171360"/>
          </a:xfrm>
        </p:grpSpPr>
        <p:sp>
          <p:nvSpPr>
            <p:cNvPr id="573" name=""/>
            <p:cNvSpPr/>
            <p:nvPr/>
          </p:nvSpPr>
          <p:spPr>
            <a:xfrm>
              <a:off x="2446920" y="2789280"/>
              <a:ext cx="111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853920" y="2617920"/>
              <a:ext cx="90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2560680" y="2727360"/>
            <a:ext cx="100080" cy="87120"/>
            <a:chOff x="2560680" y="2727360"/>
            <a:chExt cx="100080" cy="87120"/>
          </a:xfrm>
        </p:grpSpPr>
        <p:sp>
          <p:nvSpPr>
            <p:cNvPr id="576" name=""/>
            <p:cNvSpPr/>
            <p:nvPr/>
          </p:nvSpPr>
          <p:spPr>
            <a:xfrm>
              <a:off x="2607120" y="2727360"/>
              <a:ext cx="720" cy="8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2575080" y="2743920"/>
              <a:ext cx="6120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560680" y="2764800"/>
              <a:ext cx="1000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2558880" y="2390760"/>
            <a:ext cx="100080" cy="87480"/>
            <a:chOff x="2558880" y="2390760"/>
            <a:chExt cx="100080" cy="87480"/>
          </a:xfrm>
        </p:grpSpPr>
        <p:sp>
          <p:nvSpPr>
            <p:cNvPr id="580" name=""/>
            <p:cNvSpPr/>
            <p:nvPr/>
          </p:nvSpPr>
          <p:spPr>
            <a:xfrm>
              <a:off x="2605320" y="2390760"/>
              <a:ext cx="720" cy="87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2573280" y="2407320"/>
              <a:ext cx="6120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558880" y="2427840"/>
              <a:ext cx="1000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 flipH="1">
            <a:off x="741240" y="2674800"/>
            <a:ext cx="138240" cy="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4350960" y="3118320"/>
            <a:ext cx="57600" cy="18180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388760" y="3243240"/>
            <a:ext cx="129960" cy="4104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733320" y="2725560"/>
            <a:ext cx="811440" cy="180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544760" y="2727360"/>
            <a:ext cx="1047600" cy="8244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595600" y="2811600"/>
            <a:ext cx="1944720" cy="53820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892080" y="2620800"/>
            <a:ext cx="0" cy="10656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 flipV="1">
            <a:off x="744480" y="2386080"/>
            <a:ext cx="3968640" cy="144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892080" y="2385720"/>
            <a:ext cx="0" cy="2048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739800" y="2449440"/>
            <a:ext cx="138240" cy="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4559400" y="2386080"/>
            <a:ext cx="0" cy="10296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732120" y="2733840"/>
            <a:ext cx="1781280" cy="288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559400" y="2529000"/>
            <a:ext cx="0" cy="19656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579200" y="2662200"/>
            <a:ext cx="244440" cy="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460040" y="3055680"/>
            <a:ext cx="122760" cy="3888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920" bIns="-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716280" y="2776680"/>
            <a:ext cx="917640" cy="26028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4422600" y="2993400"/>
            <a:ext cx="32400" cy="10296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609560" y="2154240"/>
            <a:ext cx="177840" cy="76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1501560" y="2187720"/>
            <a:ext cx="107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633920" y="3036960"/>
            <a:ext cx="915840" cy="26028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543560" y="3349800"/>
            <a:ext cx="917280" cy="26028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518000" y="3276360"/>
            <a:ext cx="131760" cy="4176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4655880" y="3202560"/>
            <a:ext cx="57600" cy="18180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4728960" y="3074400"/>
            <a:ext cx="32400" cy="10296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593600" y="3092400"/>
            <a:ext cx="129960" cy="4104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559480" y="3271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8949240" y="2371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8585280" y="3033720"/>
            <a:ext cx="915840" cy="26028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8496360" y="3346560"/>
            <a:ext cx="915840" cy="26028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4824360" y="2617920"/>
            <a:ext cx="1703160" cy="171360"/>
            <a:chOff x="4824360" y="2617920"/>
            <a:chExt cx="1703160" cy="171360"/>
          </a:xfrm>
        </p:grpSpPr>
        <p:sp>
          <p:nvSpPr>
            <p:cNvPr id="613" name=""/>
            <p:cNvSpPr/>
            <p:nvPr/>
          </p:nvSpPr>
          <p:spPr>
            <a:xfrm>
              <a:off x="6415920" y="2789280"/>
              <a:ext cx="111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824360" y="2617920"/>
              <a:ext cx="90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6529320" y="2727360"/>
            <a:ext cx="100080" cy="87120"/>
            <a:chOff x="6529320" y="2727360"/>
            <a:chExt cx="100080" cy="87120"/>
          </a:xfrm>
        </p:grpSpPr>
        <p:sp>
          <p:nvSpPr>
            <p:cNvPr id="616" name=""/>
            <p:cNvSpPr/>
            <p:nvPr/>
          </p:nvSpPr>
          <p:spPr>
            <a:xfrm>
              <a:off x="6575760" y="2727360"/>
              <a:ext cx="720" cy="8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V="1">
              <a:off x="6543720" y="2743920"/>
              <a:ext cx="6120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529320" y="2764800"/>
              <a:ext cx="1000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6527880" y="2390760"/>
            <a:ext cx="100080" cy="87480"/>
            <a:chOff x="6527880" y="2390760"/>
            <a:chExt cx="100080" cy="87480"/>
          </a:xfrm>
        </p:grpSpPr>
        <p:sp>
          <p:nvSpPr>
            <p:cNvPr id="620" name=""/>
            <p:cNvSpPr/>
            <p:nvPr/>
          </p:nvSpPr>
          <p:spPr>
            <a:xfrm>
              <a:off x="6574320" y="2390760"/>
              <a:ext cx="720" cy="87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>
              <a:off x="6542280" y="2407320"/>
              <a:ext cx="6120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527880" y="2427840"/>
              <a:ext cx="1000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3" name=""/>
          <p:cNvSpPr/>
          <p:nvPr/>
        </p:nvSpPr>
        <p:spPr>
          <a:xfrm flipH="1">
            <a:off x="8321400" y="3118320"/>
            <a:ext cx="57600" cy="18180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8358120" y="3242880"/>
            <a:ext cx="131760" cy="4176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513400" y="2727360"/>
            <a:ext cx="1047600" cy="8244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564240" y="2811600"/>
            <a:ext cx="1944720" cy="53820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V="1">
            <a:off x="4862520" y="2620800"/>
            <a:ext cx="0" cy="10656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H="1" flipV="1">
            <a:off x="4712760" y="2386080"/>
            <a:ext cx="3970440" cy="144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4862520" y="2385720"/>
            <a:ext cx="0" cy="2048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H="1">
            <a:off x="4592520" y="2449440"/>
            <a:ext cx="254160" cy="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8547120" y="2436840"/>
            <a:ext cx="138240" cy="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8528040" y="2386080"/>
            <a:ext cx="0" cy="10296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413480" y="2700360"/>
            <a:ext cx="138240" cy="6480"/>
          </a:xfrm>
          <a:prstGeom prst="line">
            <a:avLst/>
          </a:prstGeom>
          <a:ln w="19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408800" y="2738520"/>
            <a:ext cx="82440" cy="4680"/>
          </a:xfrm>
          <a:prstGeom prst="line">
            <a:avLst/>
          </a:prstGeom>
          <a:ln w="19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701120" y="2733840"/>
            <a:ext cx="988920" cy="14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 flipV="1">
            <a:off x="6597720" y="2731680"/>
            <a:ext cx="815760" cy="180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H="1" flipV="1">
            <a:off x="6585120" y="2472840"/>
            <a:ext cx="830160" cy="22572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7537320" y="2701440"/>
            <a:ext cx="176400" cy="1800"/>
          </a:xfrm>
          <a:prstGeom prst="line">
            <a:avLst/>
          </a:prstGeom>
          <a:ln w="19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485120" y="2744640"/>
            <a:ext cx="189000" cy="57240"/>
          </a:xfrm>
          <a:prstGeom prst="line">
            <a:avLst/>
          </a:prstGeom>
          <a:ln w="19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8528040" y="2529000"/>
            <a:ext cx="0" cy="19656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8548560" y="2662200"/>
            <a:ext cx="138240" cy="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8428680" y="3054960"/>
            <a:ext cx="124200" cy="3924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560" bIns="-7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684920" y="2776680"/>
            <a:ext cx="917640" cy="26028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H="1">
            <a:off x="8391240" y="2993400"/>
            <a:ext cx="32400" cy="10296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H="1" flipV="1">
            <a:off x="5619240" y="2430360"/>
            <a:ext cx="946440" cy="3816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 flipV="1">
            <a:off x="5605560" y="2730240"/>
            <a:ext cx="971280" cy="468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5470200" y="2154240"/>
            <a:ext cx="285840" cy="76320"/>
            <a:chOff x="5470200" y="2154240"/>
            <a:chExt cx="285840" cy="76320"/>
          </a:xfrm>
        </p:grpSpPr>
        <p:sp>
          <p:nvSpPr>
            <p:cNvPr id="648" name=""/>
            <p:cNvSpPr/>
            <p:nvPr/>
          </p:nvSpPr>
          <p:spPr>
            <a:xfrm flipV="1">
              <a:off x="5578920" y="2154240"/>
              <a:ext cx="177120" cy="76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>
              <a:off x="5470200" y="2188440"/>
              <a:ext cx="108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8496360" y="3279600"/>
            <a:ext cx="131760" cy="4176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8634240" y="3206160"/>
            <a:ext cx="57600" cy="18216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8706960" y="3076920"/>
            <a:ext cx="32400" cy="10260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8571960" y="3095640"/>
            <a:ext cx="129960" cy="4104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 rot="1077000">
            <a:off x="5470200" y="3263400"/>
            <a:ext cx="103320" cy="745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2266560" y="1752480"/>
            <a:ext cx="1180080" cy="307080"/>
            <a:chOff x="2266560" y="1752480"/>
            <a:chExt cx="1180080" cy="307080"/>
          </a:xfrm>
        </p:grpSpPr>
        <p:sp>
          <p:nvSpPr>
            <p:cNvPr id="656" name=""/>
            <p:cNvSpPr/>
            <p:nvPr/>
          </p:nvSpPr>
          <p:spPr>
            <a:xfrm>
              <a:off x="2266560" y="1752480"/>
              <a:ext cx="115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400" spc="-1" strike="noStrike">
                  <a:solidFill>
                    <a:srgbClr val="000000"/>
                  </a:solidFill>
                  <a:latin typeface="Times New Roman"/>
                </a:rPr>
                <a:t>Fahrtrichtu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340000" y="2057040"/>
              <a:ext cx="110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8" name=""/>
          <p:cNvSpPr/>
          <p:nvPr/>
        </p:nvSpPr>
        <p:spPr>
          <a:xfrm>
            <a:off x="4623120" y="2953440"/>
            <a:ext cx="1005840" cy="29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rot="994800">
            <a:off x="4820040" y="289368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il mitneh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 rot="1077000">
            <a:off x="9432720" y="3267720"/>
            <a:ext cx="102960" cy="745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837480" y="3754440"/>
            <a:ext cx="0" cy="77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7120080" y="2744640"/>
            <a:ext cx="371160" cy="1084320"/>
            <a:chOff x="7120080" y="2744640"/>
            <a:chExt cx="371160" cy="1084320"/>
          </a:xfrm>
        </p:grpSpPr>
        <p:sp>
          <p:nvSpPr>
            <p:cNvPr id="663" name=""/>
            <p:cNvSpPr/>
            <p:nvPr/>
          </p:nvSpPr>
          <p:spPr>
            <a:xfrm>
              <a:off x="7120080" y="3828960"/>
              <a:ext cx="37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V="1">
              <a:off x="7491240" y="2744640"/>
              <a:ext cx="0" cy="108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5" name=""/>
          <p:cNvSpPr/>
          <p:nvPr/>
        </p:nvSpPr>
        <p:spPr>
          <a:xfrm>
            <a:off x="8426520" y="3071880"/>
            <a:ext cx="0" cy="145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837480" y="4524480"/>
            <a:ext cx="1589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479840" y="3071880"/>
            <a:ext cx="0" cy="145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3165480" y="2744640"/>
            <a:ext cx="371160" cy="1084320"/>
            <a:chOff x="3165480" y="2744640"/>
            <a:chExt cx="371160" cy="1084320"/>
          </a:xfrm>
        </p:grpSpPr>
        <p:sp>
          <p:nvSpPr>
            <p:cNvPr id="669" name=""/>
            <p:cNvSpPr/>
            <p:nvPr/>
          </p:nvSpPr>
          <p:spPr>
            <a:xfrm>
              <a:off x="3165480" y="3828960"/>
              <a:ext cx="37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V="1">
              <a:off x="3536640" y="2744640"/>
              <a:ext cx="0" cy="108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1" name=""/>
          <p:cNvSpPr/>
          <p:nvPr/>
        </p:nvSpPr>
        <p:spPr>
          <a:xfrm>
            <a:off x="3444840" y="2700360"/>
            <a:ext cx="138240" cy="648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440160" y="2738520"/>
            <a:ext cx="82440" cy="468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 flipV="1">
            <a:off x="2626920" y="2731680"/>
            <a:ext cx="817560" cy="180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 flipV="1">
            <a:off x="2615760" y="2472840"/>
            <a:ext cx="830520" cy="22572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3568680" y="2701440"/>
            <a:ext cx="174600" cy="180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514680" y="2744640"/>
            <a:ext cx="190440" cy="5724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7029360" y="3841920"/>
            <a:ext cx="57240" cy="48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058160" y="3867120"/>
            <a:ext cx="0" cy="12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H="1" flipV="1">
            <a:off x="1650960" y="2385720"/>
            <a:ext cx="944640" cy="8244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 flipV="1">
            <a:off x="1650600" y="2674800"/>
            <a:ext cx="941400" cy="5904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060720" y="3759120"/>
            <a:ext cx="54000" cy="60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086280" y="378936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>
            <a:hlinkClick r:id="rId1" action="ppaction://hlinksldjump"/>
          </p:cNvPr>
          <p:cNvSpPr/>
          <p:nvPr/>
        </p:nvSpPr>
        <p:spPr>
          <a:xfrm>
            <a:off x="4172040" y="5510160"/>
            <a:ext cx="129960" cy="160560"/>
          </a:xfrm>
          <a:custGeom>
            <a:avLst/>
            <a:gdLst>
              <a:gd name="textAreaLeft" fmla="*/ 8280 w 129960"/>
              <a:gd name="textAreaRight" fmla="*/ 121680 w 129960"/>
              <a:gd name="textAreaTop" fmla="*/ 8280 h 160560"/>
              <a:gd name="textAreaBottom" fmla="*/ 152280 h 160560"/>
            </a:gdLst>
            <a:ahLst/>
            <a:rect l="textAreaLeft" t="textAreaTop" r="textAreaRight" b="textAreaBottom"/>
            <a:pathLst>
              <a:path w="21600" h="26672">
                <a:moveTo>
                  <a:pt x="0" y="0"/>
                </a:moveTo>
                <a:lnTo>
                  <a:pt x="21600" y="0"/>
                </a:lnTo>
                <a:lnTo>
                  <a:pt x="21600" y="26672"/>
                </a:lnTo>
                <a:lnTo>
                  <a:pt x="0" y="26672"/>
                </a:lnTo>
                <a:close/>
              </a:path>
              <a:path fill="lightenLess" w="21600" h="266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672">
                <a:moveTo>
                  <a:pt x="21600" y="0"/>
                </a:moveTo>
                <a:lnTo>
                  <a:pt x="21600" y="26672"/>
                </a:lnTo>
                <a:lnTo>
                  <a:pt x="20200" y="25272"/>
                </a:lnTo>
                <a:lnTo>
                  <a:pt x="20200" y="1400"/>
                </a:lnTo>
                <a:close/>
              </a:path>
              <a:path fill="darkenLess" w="21600" h="26672">
                <a:moveTo>
                  <a:pt x="21600" y="26672"/>
                </a:moveTo>
                <a:lnTo>
                  <a:pt x="0" y="26672"/>
                </a:lnTo>
                <a:lnTo>
                  <a:pt x="1400" y="25272"/>
                </a:lnTo>
                <a:lnTo>
                  <a:pt x="20200" y="25272"/>
                </a:lnTo>
                <a:close/>
              </a:path>
              <a:path fill="lighten" w="21600" h="26672">
                <a:moveTo>
                  <a:pt x="0" y="266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272"/>
                </a:lnTo>
                <a:close/>
              </a:path>
              <a:path fill="darken" w="21600" h="26672">
                <a:moveTo>
                  <a:pt x="3794" y="6329"/>
                </a:moveTo>
                <a:lnTo>
                  <a:pt x="17806" y="13336"/>
                </a:lnTo>
                <a:lnTo>
                  <a:pt x="3794" y="2034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>
            <a:hlinkClick r:id="rId2" action="ppaction://hlinksldjump"/>
          </p:cNvPr>
          <p:cNvSpPr/>
          <p:nvPr/>
        </p:nvSpPr>
        <p:spPr>
          <a:xfrm>
            <a:off x="4172040" y="5749920"/>
            <a:ext cx="129960" cy="160200"/>
          </a:xfrm>
          <a:custGeom>
            <a:avLst/>
            <a:gdLst>
              <a:gd name="textAreaLeft" fmla="*/ 8280 w 129960"/>
              <a:gd name="textAreaRight" fmla="*/ 121680 w 129960"/>
              <a:gd name="textAreaTop" fmla="*/ 8280 h 160200"/>
              <a:gd name="textAreaBottom" fmla="*/ 151920 h 160200"/>
            </a:gdLst>
            <a:ahLst/>
            <a:rect l="textAreaLeft" t="textAreaTop" r="textAreaRight" b="textAreaBottom"/>
            <a:pathLst>
              <a:path w="21600" h="26612">
                <a:moveTo>
                  <a:pt x="0" y="0"/>
                </a:moveTo>
                <a:lnTo>
                  <a:pt x="21600" y="0"/>
                </a:lnTo>
                <a:lnTo>
                  <a:pt x="21600" y="26612"/>
                </a:lnTo>
                <a:lnTo>
                  <a:pt x="0" y="26612"/>
                </a:lnTo>
                <a:close/>
              </a:path>
              <a:path fill="lightenLess" w="21600" h="266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612">
                <a:moveTo>
                  <a:pt x="21600" y="0"/>
                </a:moveTo>
                <a:lnTo>
                  <a:pt x="21600" y="26612"/>
                </a:lnTo>
                <a:lnTo>
                  <a:pt x="20200" y="25212"/>
                </a:lnTo>
                <a:lnTo>
                  <a:pt x="20200" y="1400"/>
                </a:lnTo>
                <a:close/>
              </a:path>
              <a:path fill="darkenLess" w="21600" h="26612">
                <a:moveTo>
                  <a:pt x="21600" y="26612"/>
                </a:moveTo>
                <a:lnTo>
                  <a:pt x="0" y="26612"/>
                </a:lnTo>
                <a:lnTo>
                  <a:pt x="1400" y="25212"/>
                </a:lnTo>
                <a:lnTo>
                  <a:pt x="20200" y="25212"/>
                </a:lnTo>
                <a:close/>
              </a:path>
              <a:path fill="lighten" w="21600" h="26612">
                <a:moveTo>
                  <a:pt x="0" y="266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212"/>
                </a:lnTo>
                <a:close/>
              </a:path>
              <a:path fill="darken" w="21600" h="26612">
                <a:moveTo>
                  <a:pt x="3794" y="6300"/>
                </a:moveTo>
                <a:lnTo>
                  <a:pt x="17806" y="13306"/>
                </a:lnTo>
                <a:lnTo>
                  <a:pt x="3794" y="2031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>
            <a:hlinkClick r:id="rId3" action="ppaction://hlinksldjump"/>
          </p:cNvPr>
          <p:cNvSpPr/>
          <p:nvPr/>
        </p:nvSpPr>
        <p:spPr>
          <a:xfrm>
            <a:off x="4172040" y="5991120"/>
            <a:ext cx="129960" cy="160560"/>
          </a:xfrm>
          <a:custGeom>
            <a:avLst/>
            <a:gdLst>
              <a:gd name="textAreaLeft" fmla="*/ 8280 w 129960"/>
              <a:gd name="textAreaRight" fmla="*/ 121680 w 129960"/>
              <a:gd name="textAreaTop" fmla="*/ 8280 h 160560"/>
              <a:gd name="textAreaBottom" fmla="*/ 152280 h 160560"/>
            </a:gdLst>
            <a:ahLst/>
            <a:rect l="textAreaLeft" t="textAreaTop" r="textAreaRight" b="textAreaBottom"/>
            <a:pathLst>
              <a:path w="21600" h="26672">
                <a:moveTo>
                  <a:pt x="0" y="0"/>
                </a:moveTo>
                <a:lnTo>
                  <a:pt x="21600" y="0"/>
                </a:lnTo>
                <a:lnTo>
                  <a:pt x="21600" y="26672"/>
                </a:lnTo>
                <a:lnTo>
                  <a:pt x="0" y="26672"/>
                </a:lnTo>
                <a:close/>
              </a:path>
              <a:path fill="lightenLess" w="21600" h="266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672">
                <a:moveTo>
                  <a:pt x="21600" y="0"/>
                </a:moveTo>
                <a:lnTo>
                  <a:pt x="21600" y="26672"/>
                </a:lnTo>
                <a:lnTo>
                  <a:pt x="20200" y="25272"/>
                </a:lnTo>
                <a:lnTo>
                  <a:pt x="20200" y="1400"/>
                </a:lnTo>
                <a:close/>
              </a:path>
              <a:path fill="darkenLess" w="21600" h="26672">
                <a:moveTo>
                  <a:pt x="21600" y="26672"/>
                </a:moveTo>
                <a:lnTo>
                  <a:pt x="0" y="26672"/>
                </a:lnTo>
                <a:lnTo>
                  <a:pt x="1400" y="25272"/>
                </a:lnTo>
                <a:lnTo>
                  <a:pt x="20200" y="25272"/>
                </a:lnTo>
                <a:close/>
              </a:path>
              <a:path fill="lighten" w="21600" h="26672">
                <a:moveTo>
                  <a:pt x="0" y="266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272"/>
                </a:lnTo>
                <a:close/>
              </a:path>
              <a:path fill="darken" w="21600" h="26672">
                <a:moveTo>
                  <a:pt x="3794" y="6329"/>
                </a:moveTo>
                <a:lnTo>
                  <a:pt x="17806" y="13336"/>
                </a:lnTo>
                <a:lnTo>
                  <a:pt x="3794" y="2034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365720" y="5410080"/>
            <a:ext cx="143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Fahrstrasse A - 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365720" y="5665680"/>
            <a:ext cx="142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Fahrstrasse A -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365720" y="5919840"/>
            <a:ext cx="142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Fahrstrasse A -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"/>
          <p:cNvGrpSpPr/>
          <p:nvPr/>
        </p:nvGrpSpPr>
        <p:grpSpPr>
          <a:xfrm>
            <a:off x="5469120" y="2103120"/>
            <a:ext cx="298440" cy="182520"/>
            <a:chOff x="5469120" y="2103120"/>
            <a:chExt cx="298440" cy="182520"/>
          </a:xfrm>
        </p:grpSpPr>
        <p:grpSp>
          <p:nvGrpSpPr>
            <p:cNvPr id="690" name=""/>
            <p:cNvGrpSpPr/>
            <p:nvPr/>
          </p:nvGrpSpPr>
          <p:grpSpPr>
            <a:xfrm>
              <a:off x="5580360" y="2103120"/>
              <a:ext cx="187200" cy="182520"/>
              <a:chOff x="5580360" y="2103120"/>
              <a:chExt cx="187200" cy="182520"/>
            </a:xfrm>
          </p:grpSpPr>
          <p:sp>
            <p:nvSpPr>
              <p:cNvPr id="691" name=""/>
              <p:cNvSpPr/>
              <p:nvPr/>
            </p:nvSpPr>
            <p:spPr>
              <a:xfrm flipV="1" rot="16200000">
                <a:off x="5582520" y="2100240"/>
                <a:ext cx="182520" cy="18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2" name=""/>
              <p:cNvGrpSpPr/>
              <p:nvPr/>
            </p:nvGrpSpPr>
            <p:grpSpPr>
              <a:xfrm>
                <a:off x="5592600" y="2103840"/>
                <a:ext cx="161640" cy="180720"/>
                <a:chOff x="5592600" y="2103840"/>
                <a:chExt cx="161640" cy="180720"/>
              </a:xfrm>
            </p:grpSpPr>
            <p:sp>
              <p:nvSpPr>
                <p:cNvPr id="693" name=""/>
                <p:cNvSpPr/>
                <p:nvPr/>
              </p:nvSpPr>
              <p:spPr>
                <a:xfrm flipV="1" rot="21264000">
                  <a:off x="5600880" y="2106000"/>
                  <a:ext cx="56520" cy="17604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 flipH="1" flipV="1" rot="336000">
                  <a:off x="5689080" y="2106000"/>
                  <a:ext cx="56520" cy="17604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95" name=""/>
            <p:cNvSpPr/>
            <p:nvPr/>
          </p:nvSpPr>
          <p:spPr>
            <a:xfrm flipH="1">
              <a:off x="5469120" y="2193480"/>
              <a:ext cx="1098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6" name=""/>
          <p:cNvSpPr/>
          <p:nvPr/>
        </p:nvSpPr>
        <p:spPr>
          <a:xfrm>
            <a:off x="1394280" y="387360"/>
            <a:ext cx="77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Einbindung in einer Fahrstrasse (A - C) - Einfahrt nach rec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9502920" y="33051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V="1" rot="16200000">
            <a:off x="3115800" y="3808080"/>
            <a:ext cx="38160" cy="41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V="1" rot="16200000">
            <a:off x="3027960" y="3730680"/>
            <a:ext cx="36360" cy="41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 rot="16200000">
            <a:off x="3026880" y="3877920"/>
            <a:ext cx="38160" cy="41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 rot="16200000">
            <a:off x="3001320" y="4026600"/>
            <a:ext cx="196560" cy="13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3030480" y="4057200"/>
            <a:ext cx="13500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V="1" rot="16200000">
            <a:off x="7086600" y="3808440"/>
            <a:ext cx="38160" cy="41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V="1" rot="16200000">
            <a:off x="6996600" y="3730680"/>
            <a:ext cx="36360" cy="41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 rot="16200000">
            <a:off x="6995520" y="3877920"/>
            <a:ext cx="38160" cy="41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023240" y="3761640"/>
            <a:ext cx="71280" cy="79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V="1" rot="16200000">
            <a:off x="6969960" y="4026600"/>
            <a:ext cx="196560" cy="13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6999120" y="4057200"/>
            <a:ext cx="13500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7068960" y="3797280"/>
            <a:ext cx="0" cy="20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>
            <a:off x="2867040" y="3762360"/>
            <a:ext cx="185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867040" y="376236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867040" y="4524480"/>
            <a:ext cx="397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H="1">
            <a:off x="6837120" y="3754440"/>
            <a:ext cx="16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>
            <a:off x="6899400" y="3902040"/>
            <a:ext cx="1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899400" y="3902040"/>
            <a:ext cx="0" cy="74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>
            <a:off x="2950920" y="3902040"/>
            <a:ext cx="7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951280" y="3902040"/>
            <a:ext cx="0" cy="74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951280" y="4643280"/>
            <a:ext cx="39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867040" y="4753080"/>
            <a:ext cx="4143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065480" y="4645080"/>
            <a:ext cx="4143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817000" y="489888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u Rückmeld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416480" y="4753080"/>
            <a:ext cx="63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54440" y="2371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853920" y="2617920"/>
            <a:ext cx="1704600" cy="171360"/>
            <a:chOff x="853920" y="2617920"/>
            <a:chExt cx="1704600" cy="171360"/>
          </a:xfrm>
        </p:grpSpPr>
        <p:sp>
          <p:nvSpPr>
            <p:cNvPr id="725" name=""/>
            <p:cNvSpPr/>
            <p:nvPr/>
          </p:nvSpPr>
          <p:spPr>
            <a:xfrm>
              <a:off x="2446920" y="2789280"/>
              <a:ext cx="111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853920" y="2617920"/>
              <a:ext cx="90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7" name=""/>
          <p:cNvGrpSpPr/>
          <p:nvPr/>
        </p:nvGrpSpPr>
        <p:grpSpPr>
          <a:xfrm>
            <a:off x="2560680" y="2727360"/>
            <a:ext cx="100080" cy="87120"/>
            <a:chOff x="2560680" y="2727360"/>
            <a:chExt cx="100080" cy="87120"/>
          </a:xfrm>
        </p:grpSpPr>
        <p:sp>
          <p:nvSpPr>
            <p:cNvPr id="728" name=""/>
            <p:cNvSpPr/>
            <p:nvPr/>
          </p:nvSpPr>
          <p:spPr>
            <a:xfrm>
              <a:off x="2607120" y="2727360"/>
              <a:ext cx="720" cy="8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V="1">
              <a:off x="2575080" y="2743920"/>
              <a:ext cx="6120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560680" y="2764800"/>
              <a:ext cx="1000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2558880" y="2390760"/>
            <a:ext cx="100080" cy="87480"/>
            <a:chOff x="2558880" y="2390760"/>
            <a:chExt cx="100080" cy="87480"/>
          </a:xfrm>
        </p:grpSpPr>
        <p:sp>
          <p:nvSpPr>
            <p:cNvPr id="732" name=""/>
            <p:cNvSpPr/>
            <p:nvPr/>
          </p:nvSpPr>
          <p:spPr>
            <a:xfrm>
              <a:off x="2605320" y="2390760"/>
              <a:ext cx="720" cy="87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V="1">
              <a:off x="2573280" y="2407320"/>
              <a:ext cx="6120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558880" y="2427840"/>
              <a:ext cx="1000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5" name=""/>
          <p:cNvSpPr/>
          <p:nvPr/>
        </p:nvSpPr>
        <p:spPr>
          <a:xfrm flipH="1">
            <a:off x="741240" y="2674800"/>
            <a:ext cx="138240" cy="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H="1">
            <a:off x="4350960" y="3118320"/>
            <a:ext cx="57600" cy="18180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388760" y="3243240"/>
            <a:ext cx="129960" cy="4104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H="1">
            <a:off x="733320" y="2725560"/>
            <a:ext cx="811440" cy="180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544760" y="2727360"/>
            <a:ext cx="1047600" cy="8244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595600" y="2811600"/>
            <a:ext cx="1944720" cy="53820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892080" y="2620800"/>
            <a:ext cx="0" cy="10656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H="1" flipV="1">
            <a:off x="744480" y="2386080"/>
            <a:ext cx="3968640" cy="144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892080" y="2385720"/>
            <a:ext cx="0" cy="2048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H="1">
            <a:off x="739800" y="2449440"/>
            <a:ext cx="138240" cy="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4559400" y="2386080"/>
            <a:ext cx="0" cy="10296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444840" y="2700360"/>
            <a:ext cx="138240" cy="6480"/>
          </a:xfrm>
          <a:prstGeom prst="line">
            <a:avLst/>
          </a:prstGeom>
          <a:ln w="19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440160" y="2738520"/>
            <a:ext cx="82440" cy="4680"/>
          </a:xfrm>
          <a:prstGeom prst="line">
            <a:avLst/>
          </a:prstGeom>
          <a:ln w="19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732120" y="2733840"/>
            <a:ext cx="1781280" cy="288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H="1" flipV="1">
            <a:off x="2626920" y="2731680"/>
            <a:ext cx="817560" cy="180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H="1" flipV="1">
            <a:off x="2615760" y="2472840"/>
            <a:ext cx="830520" cy="22572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3568680" y="2701440"/>
            <a:ext cx="174600" cy="1800"/>
          </a:xfrm>
          <a:prstGeom prst="line">
            <a:avLst/>
          </a:prstGeom>
          <a:ln w="19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514680" y="2744640"/>
            <a:ext cx="190440" cy="57240"/>
          </a:xfrm>
          <a:prstGeom prst="line">
            <a:avLst/>
          </a:prstGeom>
          <a:ln w="19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559400" y="2529000"/>
            <a:ext cx="0" cy="19656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579200" y="2662200"/>
            <a:ext cx="244440" cy="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460040" y="3055680"/>
            <a:ext cx="122760" cy="3888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920" bIns="-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716280" y="2776680"/>
            <a:ext cx="917640" cy="26028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H="1">
            <a:off x="4422600" y="2993400"/>
            <a:ext cx="32400" cy="10296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H="1" flipV="1">
            <a:off x="1650960" y="2430360"/>
            <a:ext cx="946080" cy="3816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H="1" flipV="1">
            <a:off x="1634760" y="2730240"/>
            <a:ext cx="971640" cy="468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 flipV="1">
            <a:off x="1609560" y="2154240"/>
            <a:ext cx="177840" cy="76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1501560" y="2187720"/>
            <a:ext cx="107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633920" y="3036960"/>
            <a:ext cx="915840" cy="26028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543560" y="3349800"/>
            <a:ext cx="917280" cy="26028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518000" y="3276360"/>
            <a:ext cx="131760" cy="4176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H="1">
            <a:off x="4655880" y="3202560"/>
            <a:ext cx="57600" cy="18180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4728960" y="3074400"/>
            <a:ext cx="32400" cy="10296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593600" y="3092400"/>
            <a:ext cx="129960" cy="4104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559480" y="3271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8949240" y="2371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8585280" y="3033720"/>
            <a:ext cx="915840" cy="26028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8496360" y="3346560"/>
            <a:ext cx="915840" cy="26028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4824360" y="2617920"/>
            <a:ext cx="1703160" cy="171360"/>
            <a:chOff x="4824360" y="2617920"/>
            <a:chExt cx="1703160" cy="171360"/>
          </a:xfrm>
        </p:grpSpPr>
        <p:sp>
          <p:nvSpPr>
            <p:cNvPr id="773" name=""/>
            <p:cNvSpPr/>
            <p:nvPr/>
          </p:nvSpPr>
          <p:spPr>
            <a:xfrm>
              <a:off x="6415920" y="2789280"/>
              <a:ext cx="111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824360" y="2617920"/>
              <a:ext cx="90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5" name=""/>
          <p:cNvGrpSpPr/>
          <p:nvPr/>
        </p:nvGrpSpPr>
        <p:grpSpPr>
          <a:xfrm>
            <a:off x="6529320" y="2727360"/>
            <a:ext cx="100080" cy="87120"/>
            <a:chOff x="6529320" y="2727360"/>
            <a:chExt cx="100080" cy="87120"/>
          </a:xfrm>
        </p:grpSpPr>
        <p:sp>
          <p:nvSpPr>
            <p:cNvPr id="776" name=""/>
            <p:cNvSpPr/>
            <p:nvPr/>
          </p:nvSpPr>
          <p:spPr>
            <a:xfrm>
              <a:off x="6575760" y="2727360"/>
              <a:ext cx="720" cy="8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V="1">
              <a:off x="6543720" y="2743920"/>
              <a:ext cx="6120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529320" y="2764800"/>
              <a:ext cx="1000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9" name=""/>
          <p:cNvGrpSpPr/>
          <p:nvPr/>
        </p:nvGrpSpPr>
        <p:grpSpPr>
          <a:xfrm>
            <a:off x="6527880" y="2390760"/>
            <a:ext cx="100080" cy="87480"/>
            <a:chOff x="6527880" y="2390760"/>
            <a:chExt cx="100080" cy="87480"/>
          </a:xfrm>
        </p:grpSpPr>
        <p:sp>
          <p:nvSpPr>
            <p:cNvPr id="780" name=""/>
            <p:cNvSpPr/>
            <p:nvPr/>
          </p:nvSpPr>
          <p:spPr>
            <a:xfrm>
              <a:off x="6574320" y="2390760"/>
              <a:ext cx="720" cy="87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6542280" y="2407320"/>
              <a:ext cx="6120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527880" y="2427840"/>
              <a:ext cx="1000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3" name=""/>
          <p:cNvSpPr/>
          <p:nvPr/>
        </p:nvSpPr>
        <p:spPr>
          <a:xfrm flipH="1">
            <a:off x="8321400" y="3118320"/>
            <a:ext cx="57600" cy="18180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8358120" y="3242880"/>
            <a:ext cx="131760" cy="4176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513400" y="2727360"/>
            <a:ext cx="1047600" cy="8244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564240" y="2811600"/>
            <a:ext cx="1944720" cy="53820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flipV="1">
            <a:off x="4862520" y="2620800"/>
            <a:ext cx="0" cy="10656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H="1" flipV="1">
            <a:off x="4712760" y="2386080"/>
            <a:ext cx="3970440" cy="144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4862520" y="2385720"/>
            <a:ext cx="0" cy="2048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H="1">
            <a:off x="4592520" y="2449440"/>
            <a:ext cx="254160" cy="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8547120" y="2436840"/>
            <a:ext cx="138240" cy="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8528040" y="2386080"/>
            <a:ext cx="0" cy="10296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7413480" y="2700360"/>
            <a:ext cx="138240" cy="648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7408800" y="2738520"/>
            <a:ext cx="82440" cy="468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7701120" y="2733840"/>
            <a:ext cx="988920" cy="14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H="1" flipV="1">
            <a:off x="6597720" y="2731680"/>
            <a:ext cx="815760" cy="180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H="1" flipV="1">
            <a:off x="6585120" y="2472840"/>
            <a:ext cx="830160" cy="22572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V="1">
            <a:off x="7537320" y="2701440"/>
            <a:ext cx="176400" cy="180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7485120" y="2744640"/>
            <a:ext cx="189000" cy="5724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8528040" y="2529000"/>
            <a:ext cx="0" cy="19656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8548560" y="2662200"/>
            <a:ext cx="138240" cy="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8428680" y="3054960"/>
            <a:ext cx="124200" cy="3924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560" bIns="-7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7684920" y="2776680"/>
            <a:ext cx="917640" cy="26028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8391240" y="2993400"/>
            <a:ext cx="32400" cy="10296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8496360" y="3279600"/>
            <a:ext cx="131760" cy="4176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H="1">
            <a:off x="8634240" y="3206160"/>
            <a:ext cx="57600" cy="18216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8706960" y="3076920"/>
            <a:ext cx="32400" cy="10260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8571960" y="3095640"/>
            <a:ext cx="129960" cy="4104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 rot="1077000">
            <a:off x="5470200" y="3263400"/>
            <a:ext cx="103320" cy="745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0" name=""/>
          <p:cNvGrpSpPr/>
          <p:nvPr/>
        </p:nvGrpSpPr>
        <p:grpSpPr>
          <a:xfrm>
            <a:off x="2266560" y="1752480"/>
            <a:ext cx="1180080" cy="307080"/>
            <a:chOff x="2266560" y="1752480"/>
            <a:chExt cx="1180080" cy="307080"/>
          </a:xfrm>
        </p:grpSpPr>
        <p:sp>
          <p:nvSpPr>
            <p:cNvPr id="811" name=""/>
            <p:cNvSpPr/>
            <p:nvPr/>
          </p:nvSpPr>
          <p:spPr>
            <a:xfrm>
              <a:off x="2266560" y="1752480"/>
              <a:ext cx="115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400" spc="-1" strike="noStrike">
                  <a:solidFill>
                    <a:srgbClr val="000000"/>
                  </a:solidFill>
                  <a:latin typeface="Times New Roman"/>
                </a:rPr>
                <a:t>Fahrtrichtu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340000" y="2057040"/>
              <a:ext cx="110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3" name=""/>
          <p:cNvSpPr/>
          <p:nvPr/>
        </p:nvSpPr>
        <p:spPr>
          <a:xfrm>
            <a:off x="4623120" y="2953440"/>
            <a:ext cx="1005840" cy="29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rot="994800">
            <a:off x="4820040" y="289368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il mitneh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V="1" rot="1077000">
            <a:off x="9432720" y="3267720"/>
            <a:ext cx="102960" cy="745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837480" y="3754440"/>
            <a:ext cx="0" cy="77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7120080" y="2744640"/>
            <a:ext cx="371160" cy="1084320"/>
            <a:chOff x="7120080" y="2744640"/>
            <a:chExt cx="371160" cy="1084320"/>
          </a:xfrm>
        </p:grpSpPr>
        <p:sp>
          <p:nvSpPr>
            <p:cNvPr id="818" name=""/>
            <p:cNvSpPr/>
            <p:nvPr/>
          </p:nvSpPr>
          <p:spPr>
            <a:xfrm>
              <a:off x="7120080" y="3828960"/>
              <a:ext cx="37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V="1">
              <a:off x="7491240" y="2744640"/>
              <a:ext cx="0" cy="108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0" name=""/>
          <p:cNvSpPr/>
          <p:nvPr/>
        </p:nvSpPr>
        <p:spPr>
          <a:xfrm>
            <a:off x="8426520" y="3071880"/>
            <a:ext cx="0" cy="145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837480" y="4524480"/>
            <a:ext cx="1589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479840" y="3071880"/>
            <a:ext cx="0" cy="145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3" name=""/>
          <p:cNvGrpSpPr/>
          <p:nvPr/>
        </p:nvGrpSpPr>
        <p:grpSpPr>
          <a:xfrm>
            <a:off x="3165480" y="2744640"/>
            <a:ext cx="371160" cy="1084320"/>
            <a:chOff x="3165480" y="2744640"/>
            <a:chExt cx="371160" cy="1084320"/>
          </a:xfrm>
        </p:grpSpPr>
        <p:sp>
          <p:nvSpPr>
            <p:cNvPr id="824" name=""/>
            <p:cNvSpPr/>
            <p:nvPr/>
          </p:nvSpPr>
          <p:spPr>
            <a:xfrm>
              <a:off x="3165480" y="3828960"/>
              <a:ext cx="37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V="1">
              <a:off x="3536640" y="2744640"/>
              <a:ext cx="0" cy="108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"/>
          <p:cNvSpPr/>
          <p:nvPr/>
        </p:nvSpPr>
        <p:spPr>
          <a:xfrm flipH="1" flipV="1">
            <a:off x="5605560" y="2385720"/>
            <a:ext cx="968400" cy="8244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H="1" flipV="1">
            <a:off x="5578200" y="2674800"/>
            <a:ext cx="982440" cy="5904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3062160" y="3843360"/>
            <a:ext cx="57240" cy="47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095640" y="3867120"/>
            <a:ext cx="0" cy="12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>
            <a:hlinkClick r:id="rId1" action="ppaction://hlinksldjump"/>
          </p:cNvPr>
          <p:cNvSpPr/>
          <p:nvPr/>
        </p:nvSpPr>
        <p:spPr>
          <a:xfrm>
            <a:off x="4172040" y="5510160"/>
            <a:ext cx="129960" cy="160560"/>
          </a:xfrm>
          <a:custGeom>
            <a:avLst/>
            <a:gdLst>
              <a:gd name="textAreaLeft" fmla="*/ 8280 w 129960"/>
              <a:gd name="textAreaRight" fmla="*/ 121680 w 129960"/>
              <a:gd name="textAreaTop" fmla="*/ 8280 h 160560"/>
              <a:gd name="textAreaBottom" fmla="*/ 152280 h 160560"/>
            </a:gdLst>
            <a:ahLst/>
            <a:rect l="textAreaLeft" t="textAreaTop" r="textAreaRight" b="textAreaBottom"/>
            <a:pathLst>
              <a:path w="21600" h="26672">
                <a:moveTo>
                  <a:pt x="0" y="0"/>
                </a:moveTo>
                <a:lnTo>
                  <a:pt x="21600" y="0"/>
                </a:lnTo>
                <a:lnTo>
                  <a:pt x="21600" y="26672"/>
                </a:lnTo>
                <a:lnTo>
                  <a:pt x="0" y="26672"/>
                </a:lnTo>
                <a:close/>
              </a:path>
              <a:path fill="lightenLess" w="21600" h="266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672">
                <a:moveTo>
                  <a:pt x="21600" y="0"/>
                </a:moveTo>
                <a:lnTo>
                  <a:pt x="21600" y="26672"/>
                </a:lnTo>
                <a:lnTo>
                  <a:pt x="20200" y="25272"/>
                </a:lnTo>
                <a:lnTo>
                  <a:pt x="20200" y="1400"/>
                </a:lnTo>
                <a:close/>
              </a:path>
              <a:path fill="darkenLess" w="21600" h="26672">
                <a:moveTo>
                  <a:pt x="21600" y="26672"/>
                </a:moveTo>
                <a:lnTo>
                  <a:pt x="0" y="26672"/>
                </a:lnTo>
                <a:lnTo>
                  <a:pt x="1400" y="25272"/>
                </a:lnTo>
                <a:lnTo>
                  <a:pt x="20200" y="25272"/>
                </a:lnTo>
                <a:close/>
              </a:path>
              <a:path fill="lighten" w="21600" h="26672">
                <a:moveTo>
                  <a:pt x="0" y="266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272"/>
                </a:lnTo>
                <a:close/>
              </a:path>
              <a:path fill="darken" w="21600" h="26672">
                <a:moveTo>
                  <a:pt x="3794" y="6329"/>
                </a:moveTo>
                <a:lnTo>
                  <a:pt x="17806" y="13336"/>
                </a:lnTo>
                <a:lnTo>
                  <a:pt x="3794" y="2034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>
            <a:hlinkClick r:id="rId2" action="ppaction://hlinksldjump"/>
          </p:cNvPr>
          <p:cNvSpPr/>
          <p:nvPr/>
        </p:nvSpPr>
        <p:spPr>
          <a:xfrm>
            <a:off x="4172040" y="5749920"/>
            <a:ext cx="129960" cy="160200"/>
          </a:xfrm>
          <a:custGeom>
            <a:avLst/>
            <a:gdLst>
              <a:gd name="textAreaLeft" fmla="*/ 8280 w 129960"/>
              <a:gd name="textAreaRight" fmla="*/ 121680 w 129960"/>
              <a:gd name="textAreaTop" fmla="*/ 8280 h 160200"/>
              <a:gd name="textAreaBottom" fmla="*/ 151920 h 160200"/>
            </a:gdLst>
            <a:ahLst/>
            <a:rect l="textAreaLeft" t="textAreaTop" r="textAreaRight" b="textAreaBottom"/>
            <a:pathLst>
              <a:path w="21600" h="26612">
                <a:moveTo>
                  <a:pt x="0" y="0"/>
                </a:moveTo>
                <a:lnTo>
                  <a:pt x="21600" y="0"/>
                </a:lnTo>
                <a:lnTo>
                  <a:pt x="21600" y="26612"/>
                </a:lnTo>
                <a:lnTo>
                  <a:pt x="0" y="26612"/>
                </a:lnTo>
                <a:close/>
              </a:path>
              <a:path fill="lightenLess" w="21600" h="266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612">
                <a:moveTo>
                  <a:pt x="21600" y="0"/>
                </a:moveTo>
                <a:lnTo>
                  <a:pt x="21600" y="26612"/>
                </a:lnTo>
                <a:lnTo>
                  <a:pt x="20200" y="25212"/>
                </a:lnTo>
                <a:lnTo>
                  <a:pt x="20200" y="1400"/>
                </a:lnTo>
                <a:close/>
              </a:path>
              <a:path fill="darkenLess" w="21600" h="26612">
                <a:moveTo>
                  <a:pt x="21600" y="26612"/>
                </a:moveTo>
                <a:lnTo>
                  <a:pt x="0" y="26612"/>
                </a:lnTo>
                <a:lnTo>
                  <a:pt x="1400" y="25212"/>
                </a:lnTo>
                <a:lnTo>
                  <a:pt x="20200" y="25212"/>
                </a:lnTo>
                <a:close/>
              </a:path>
              <a:path fill="lighten" w="21600" h="26612">
                <a:moveTo>
                  <a:pt x="0" y="266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212"/>
                </a:lnTo>
                <a:close/>
              </a:path>
              <a:path fill="darken" w="21600" h="26612">
                <a:moveTo>
                  <a:pt x="3794" y="6300"/>
                </a:moveTo>
                <a:lnTo>
                  <a:pt x="17806" y="13306"/>
                </a:lnTo>
                <a:lnTo>
                  <a:pt x="3794" y="2031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>
            <a:hlinkClick r:id="rId3" action="ppaction://hlinksldjump"/>
          </p:cNvPr>
          <p:cNvSpPr/>
          <p:nvPr/>
        </p:nvSpPr>
        <p:spPr>
          <a:xfrm>
            <a:off x="4172040" y="5991120"/>
            <a:ext cx="129960" cy="160560"/>
          </a:xfrm>
          <a:custGeom>
            <a:avLst/>
            <a:gdLst>
              <a:gd name="textAreaLeft" fmla="*/ 8280 w 129960"/>
              <a:gd name="textAreaRight" fmla="*/ 121680 w 129960"/>
              <a:gd name="textAreaTop" fmla="*/ 8280 h 160560"/>
              <a:gd name="textAreaBottom" fmla="*/ 152280 h 160560"/>
            </a:gdLst>
            <a:ahLst/>
            <a:rect l="textAreaLeft" t="textAreaTop" r="textAreaRight" b="textAreaBottom"/>
            <a:pathLst>
              <a:path w="21600" h="26672">
                <a:moveTo>
                  <a:pt x="0" y="0"/>
                </a:moveTo>
                <a:lnTo>
                  <a:pt x="21600" y="0"/>
                </a:lnTo>
                <a:lnTo>
                  <a:pt x="21600" y="26672"/>
                </a:lnTo>
                <a:lnTo>
                  <a:pt x="0" y="26672"/>
                </a:lnTo>
                <a:close/>
              </a:path>
              <a:path fill="lightenLess" w="21600" h="266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672">
                <a:moveTo>
                  <a:pt x="21600" y="0"/>
                </a:moveTo>
                <a:lnTo>
                  <a:pt x="21600" y="26672"/>
                </a:lnTo>
                <a:lnTo>
                  <a:pt x="20200" y="25272"/>
                </a:lnTo>
                <a:lnTo>
                  <a:pt x="20200" y="1400"/>
                </a:lnTo>
                <a:close/>
              </a:path>
              <a:path fill="darkenLess" w="21600" h="26672">
                <a:moveTo>
                  <a:pt x="21600" y="26672"/>
                </a:moveTo>
                <a:lnTo>
                  <a:pt x="0" y="26672"/>
                </a:lnTo>
                <a:lnTo>
                  <a:pt x="1400" y="25272"/>
                </a:lnTo>
                <a:lnTo>
                  <a:pt x="20200" y="25272"/>
                </a:lnTo>
                <a:close/>
              </a:path>
              <a:path fill="lighten" w="21600" h="26672">
                <a:moveTo>
                  <a:pt x="0" y="266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272"/>
                </a:lnTo>
                <a:close/>
              </a:path>
              <a:path fill="darken" w="21600" h="26672">
                <a:moveTo>
                  <a:pt x="3794" y="6329"/>
                </a:moveTo>
                <a:lnTo>
                  <a:pt x="17806" y="13336"/>
                </a:lnTo>
                <a:lnTo>
                  <a:pt x="3794" y="2034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365720" y="5410080"/>
            <a:ext cx="143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Fahrstrasse A - 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365720" y="5665680"/>
            <a:ext cx="142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Fahrstrasse A -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4365720" y="5919840"/>
            <a:ext cx="142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Fahrstrasse A -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/>
          <p:nvPr/>
        </p:nvSpPr>
        <p:spPr>
          <a:xfrm>
            <a:off x="1397160" y="387360"/>
            <a:ext cx="75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Einbindung in einer Fahrstrasse (A - D) - Ausfahrt von li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H="1">
            <a:off x="9371160" y="30560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153720" y="22287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9" name=""/>
          <p:cNvGrpSpPr/>
          <p:nvPr/>
        </p:nvGrpSpPr>
        <p:grpSpPr>
          <a:xfrm>
            <a:off x="7366320" y="3095640"/>
            <a:ext cx="1704600" cy="171360"/>
            <a:chOff x="7366320" y="3095640"/>
            <a:chExt cx="1704600" cy="171360"/>
          </a:xfrm>
        </p:grpSpPr>
        <p:sp>
          <p:nvSpPr>
            <p:cNvPr id="840" name=""/>
            <p:cNvSpPr/>
            <p:nvPr/>
          </p:nvSpPr>
          <p:spPr>
            <a:xfrm flipH="1">
              <a:off x="7366320" y="3095640"/>
              <a:ext cx="111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8980920" y="3267000"/>
              <a:ext cx="90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2" name=""/>
          <p:cNvGrpSpPr/>
          <p:nvPr/>
        </p:nvGrpSpPr>
        <p:grpSpPr>
          <a:xfrm>
            <a:off x="7264440" y="3069720"/>
            <a:ext cx="100080" cy="87480"/>
            <a:chOff x="7264440" y="3069720"/>
            <a:chExt cx="100080" cy="87480"/>
          </a:xfrm>
        </p:grpSpPr>
        <p:sp>
          <p:nvSpPr>
            <p:cNvPr id="843" name=""/>
            <p:cNvSpPr/>
            <p:nvPr/>
          </p:nvSpPr>
          <p:spPr>
            <a:xfrm flipH="1" flipV="1">
              <a:off x="7317360" y="3069720"/>
              <a:ext cx="720" cy="87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7288920" y="3094560"/>
              <a:ext cx="6120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7264440" y="3120120"/>
              <a:ext cx="1000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6" name=""/>
          <p:cNvGrpSpPr/>
          <p:nvPr/>
        </p:nvGrpSpPr>
        <p:grpSpPr>
          <a:xfrm>
            <a:off x="7265880" y="3406320"/>
            <a:ext cx="100080" cy="87480"/>
            <a:chOff x="7265880" y="3406320"/>
            <a:chExt cx="100080" cy="87480"/>
          </a:xfrm>
        </p:grpSpPr>
        <p:sp>
          <p:nvSpPr>
            <p:cNvPr id="847" name=""/>
            <p:cNvSpPr/>
            <p:nvPr/>
          </p:nvSpPr>
          <p:spPr>
            <a:xfrm flipH="1" flipV="1">
              <a:off x="7318800" y="3406320"/>
              <a:ext cx="720" cy="87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7290360" y="3431160"/>
              <a:ext cx="6120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7265880" y="3456720"/>
              <a:ext cx="1000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0" name=""/>
          <p:cNvSpPr/>
          <p:nvPr/>
        </p:nvSpPr>
        <p:spPr>
          <a:xfrm>
            <a:off x="9045720" y="3209760"/>
            <a:ext cx="137880" cy="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flipV="1">
            <a:off x="5516280" y="2583720"/>
            <a:ext cx="57600" cy="18180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flipH="1" flipV="1">
            <a:off x="5405400" y="2600280"/>
            <a:ext cx="130320" cy="4104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flipV="1">
            <a:off x="8380440" y="3157560"/>
            <a:ext cx="811080" cy="144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H="1" flipV="1">
            <a:off x="7332840" y="3074760"/>
            <a:ext cx="1047600" cy="8244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flipH="1" flipV="1">
            <a:off x="5384880" y="2534760"/>
            <a:ext cx="1944720" cy="53820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9032760" y="3157560"/>
            <a:ext cx="0" cy="10620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211720" y="3497400"/>
            <a:ext cx="3968640" cy="14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9032760" y="3294000"/>
            <a:ext cx="0" cy="20484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9047160" y="3435480"/>
            <a:ext cx="138240" cy="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5365800" y="3395520"/>
            <a:ext cx="0" cy="10332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flipH="1" flipV="1">
            <a:off x="6341760" y="3178080"/>
            <a:ext cx="137880" cy="648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H="1" flipV="1">
            <a:off x="6402240" y="3141360"/>
            <a:ext cx="82800" cy="468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H="1" flipV="1">
            <a:off x="4411440" y="3147480"/>
            <a:ext cx="1780920" cy="324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480000" y="3151080"/>
            <a:ext cx="817560" cy="180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6478560" y="3186000"/>
            <a:ext cx="830160" cy="22536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flipH="1">
            <a:off x="6181560" y="3181320"/>
            <a:ext cx="174960" cy="144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H="1" flipV="1">
            <a:off x="6219360" y="3083040"/>
            <a:ext cx="190440" cy="5688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V="1">
            <a:off x="5365800" y="3158640"/>
            <a:ext cx="0" cy="19692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H="1">
            <a:off x="5100480" y="3222720"/>
            <a:ext cx="244800" cy="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H="1" flipV="1">
            <a:off x="5341320" y="2790360"/>
            <a:ext cx="122760" cy="3888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920" bIns="-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H="1" flipV="1">
            <a:off x="5291280" y="2847600"/>
            <a:ext cx="917280" cy="26028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V="1">
            <a:off x="5470200" y="2788560"/>
            <a:ext cx="32400" cy="10296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7327800" y="3416400"/>
            <a:ext cx="946080" cy="3816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7318440" y="3149640"/>
            <a:ext cx="971640" cy="468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5" name=""/>
          <p:cNvGrpSpPr/>
          <p:nvPr/>
        </p:nvGrpSpPr>
        <p:grpSpPr>
          <a:xfrm>
            <a:off x="8137440" y="3654360"/>
            <a:ext cx="285840" cy="76320"/>
            <a:chOff x="8137440" y="3654360"/>
            <a:chExt cx="285840" cy="76320"/>
          </a:xfrm>
        </p:grpSpPr>
        <p:sp>
          <p:nvSpPr>
            <p:cNvPr id="876" name=""/>
            <p:cNvSpPr/>
            <p:nvPr/>
          </p:nvSpPr>
          <p:spPr>
            <a:xfrm>
              <a:off x="8245440" y="3654360"/>
              <a:ext cx="177840" cy="76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8137440" y="3697200"/>
              <a:ext cx="108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8" name=""/>
          <p:cNvSpPr/>
          <p:nvPr/>
        </p:nvSpPr>
        <p:spPr>
          <a:xfrm flipH="1" flipV="1">
            <a:off x="4374720" y="2587320"/>
            <a:ext cx="916200" cy="26028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 flipH="1" flipV="1">
            <a:off x="4463640" y="2274480"/>
            <a:ext cx="917640" cy="26028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0" name=""/>
          <p:cNvGrpSpPr/>
          <p:nvPr/>
        </p:nvGrpSpPr>
        <p:grpSpPr>
          <a:xfrm>
            <a:off x="5163840" y="2499480"/>
            <a:ext cx="243360" cy="311040"/>
            <a:chOff x="5163840" y="2499480"/>
            <a:chExt cx="243360" cy="311040"/>
          </a:xfrm>
        </p:grpSpPr>
        <p:sp>
          <p:nvSpPr>
            <p:cNvPr id="881" name=""/>
            <p:cNvSpPr/>
            <p:nvPr/>
          </p:nvSpPr>
          <p:spPr>
            <a:xfrm flipH="1" flipV="1">
              <a:off x="5276520" y="2566440"/>
              <a:ext cx="130680" cy="414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V="1">
              <a:off x="5211000" y="2499480"/>
              <a:ext cx="57600" cy="181800"/>
            </a:xfrm>
            <a:prstGeom prst="line">
              <a:avLst/>
            </a:prstGeom>
            <a:ln w="7632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V="1">
              <a:off x="5163840" y="2707560"/>
              <a:ext cx="32400" cy="102960"/>
            </a:xfrm>
            <a:prstGeom prst="line">
              <a:avLst/>
            </a:prstGeom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 flipV="1">
              <a:off x="5201280" y="2750760"/>
              <a:ext cx="130680" cy="4140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5" name=""/>
          <p:cNvSpPr/>
          <p:nvPr/>
        </p:nvSpPr>
        <p:spPr>
          <a:xfrm flipH="1">
            <a:off x="3981240" y="2155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 flipH="1">
            <a:off x="576360" y="30560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>
            <a:hlinkClick r:id="rId1" action="ppaction://hlinksldjump"/>
          </p:cNvPr>
          <p:cNvSpPr/>
          <p:nvPr/>
        </p:nvSpPr>
        <p:spPr>
          <a:xfrm>
            <a:off x="4172040" y="5510160"/>
            <a:ext cx="129960" cy="160560"/>
          </a:xfrm>
          <a:custGeom>
            <a:avLst/>
            <a:gdLst>
              <a:gd name="textAreaLeft" fmla="*/ 8280 w 129960"/>
              <a:gd name="textAreaRight" fmla="*/ 121680 w 129960"/>
              <a:gd name="textAreaTop" fmla="*/ 8280 h 160560"/>
              <a:gd name="textAreaBottom" fmla="*/ 152280 h 160560"/>
            </a:gdLst>
            <a:ahLst/>
            <a:rect l="textAreaLeft" t="textAreaTop" r="textAreaRight" b="textAreaBottom"/>
            <a:pathLst>
              <a:path w="21600" h="26672">
                <a:moveTo>
                  <a:pt x="0" y="0"/>
                </a:moveTo>
                <a:lnTo>
                  <a:pt x="21600" y="0"/>
                </a:lnTo>
                <a:lnTo>
                  <a:pt x="21600" y="26672"/>
                </a:lnTo>
                <a:lnTo>
                  <a:pt x="0" y="26672"/>
                </a:lnTo>
                <a:close/>
              </a:path>
              <a:path fill="lightenLess" w="21600" h="266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672">
                <a:moveTo>
                  <a:pt x="21600" y="0"/>
                </a:moveTo>
                <a:lnTo>
                  <a:pt x="21600" y="26672"/>
                </a:lnTo>
                <a:lnTo>
                  <a:pt x="20200" y="25272"/>
                </a:lnTo>
                <a:lnTo>
                  <a:pt x="20200" y="1400"/>
                </a:lnTo>
                <a:close/>
              </a:path>
              <a:path fill="darkenLess" w="21600" h="26672">
                <a:moveTo>
                  <a:pt x="21600" y="26672"/>
                </a:moveTo>
                <a:lnTo>
                  <a:pt x="0" y="26672"/>
                </a:lnTo>
                <a:lnTo>
                  <a:pt x="1400" y="25272"/>
                </a:lnTo>
                <a:lnTo>
                  <a:pt x="20200" y="25272"/>
                </a:lnTo>
                <a:close/>
              </a:path>
              <a:path fill="lighten" w="21600" h="26672">
                <a:moveTo>
                  <a:pt x="0" y="266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272"/>
                </a:lnTo>
                <a:close/>
              </a:path>
              <a:path fill="darken" w="21600" h="26672">
                <a:moveTo>
                  <a:pt x="3794" y="6329"/>
                </a:moveTo>
                <a:lnTo>
                  <a:pt x="17806" y="13336"/>
                </a:lnTo>
                <a:lnTo>
                  <a:pt x="3794" y="2034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>
            <a:hlinkClick r:id="rId2" action="ppaction://hlinksldjump"/>
          </p:cNvPr>
          <p:cNvSpPr/>
          <p:nvPr/>
        </p:nvSpPr>
        <p:spPr>
          <a:xfrm>
            <a:off x="4172040" y="5749920"/>
            <a:ext cx="129960" cy="160200"/>
          </a:xfrm>
          <a:custGeom>
            <a:avLst/>
            <a:gdLst>
              <a:gd name="textAreaLeft" fmla="*/ 8280 w 129960"/>
              <a:gd name="textAreaRight" fmla="*/ 121680 w 129960"/>
              <a:gd name="textAreaTop" fmla="*/ 8280 h 160200"/>
              <a:gd name="textAreaBottom" fmla="*/ 151920 h 160200"/>
            </a:gdLst>
            <a:ahLst/>
            <a:rect l="textAreaLeft" t="textAreaTop" r="textAreaRight" b="textAreaBottom"/>
            <a:pathLst>
              <a:path w="21600" h="26612">
                <a:moveTo>
                  <a:pt x="0" y="0"/>
                </a:moveTo>
                <a:lnTo>
                  <a:pt x="21600" y="0"/>
                </a:lnTo>
                <a:lnTo>
                  <a:pt x="21600" y="26612"/>
                </a:lnTo>
                <a:lnTo>
                  <a:pt x="0" y="26612"/>
                </a:lnTo>
                <a:close/>
              </a:path>
              <a:path fill="lightenLess" w="21600" h="266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612">
                <a:moveTo>
                  <a:pt x="21600" y="0"/>
                </a:moveTo>
                <a:lnTo>
                  <a:pt x="21600" y="26612"/>
                </a:lnTo>
                <a:lnTo>
                  <a:pt x="20200" y="25212"/>
                </a:lnTo>
                <a:lnTo>
                  <a:pt x="20200" y="1400"/>
                </a:lnTo>
                <a:close/>
              </a:path>
              <a:path fill="darkenLess" w="21600" h="26612">
                <a:moveTo>
                  <a:pt x="21600" y="26612"/>
                </a:moveTo>
                <a:lnTo>
                  <a:pt x="0" y="26612"/>
                </a:lnTo>
                <a:lnTo>
                  <a:pt x="1400" y="25212"/>
                </a:lnTo>
                <a:lnTo>
                  <a:pt x="20200" y="25212"/>
                </a:lnTo>
                <a:close/>
              </a:path>
              <a:path fill="lighten" w="21600" h="26612">
                <a:moveTo>
                  <a:pt x="0" y="266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212"/>
                </a:lnTo>
                <a:close/>
              </a:path>
              <a:path fill="darken" w="21600" h="26612">
                <a:moveTo>
                  <a:pt x="3794" y="6300"/>
                </a:moveTo>
                <a:lnTo>
                  <a:pt x="17806" y="13306"/>
                </a:lnTo>
                <a:lnTo>
                  <a:pt x="3794" y="2031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>
            <a:hlinkClick r:id="rId3" action="ppaction://hlinksldjump"/>
          </p:cNvPr>
          <p:cNvSpPr/>
          <p:nvPr/>
        </p:nvSpPr>
        <p:spPr>
          <a:xfrm>
            <a:off x="4172040" y="5991120"/>
            <a:ext cx="129960" cy="160560"/>
          </a:xfrm>
          <a:custGeom>
            <a:avLst/>
            <a:gdLst>
              <a:gd name="textAreaLeft" fmla="*/ 8280 w 129960"/>
              <a:gd name="textAreaRight" fmla="*/ 121680 w 129960"/>
              <a:gd name="textAreaTop" fmla="*/ 8280 h 160560"/>
              <a:gd name="textAreaBottom" fmla="*/ 152280 h 160560"/>
            </a:gdLst>
            <a:ahLst/>
            <a:rect l="textAreaLeft" t="textAreaTop" r="textAreaRight" b="textAreaBottom"/>
            <a:pathLst>
              <a:path w="21600" h="26672">
                <a:moveTo>
                  <a:pt x="0" y="0"/>
                </a:moveTo>
                <a:lnTo>
                  <a:pt x="21600" y="0"/>
                </a:lnTo>
                <a:lnTo>
                  <a:pt x="21600" y="26672"/>
                </a:lnTo>
                <a:lnTo>
                  <a:pt x="0" y="26672"/>
                </a:lnTo>
                <a:close/>
              </a:path>
              <a:path fill="lightenLess" w="21600" h="266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672">
                <a:moveTo>
                  <a:pt x="21600" y="0"/>
                </a:moveTo>
                <a:lnTo>
                  <a:pt x="21600" y="26672"/>
                </a:lnTo>
                <a:lnTo>
                  <a:pt x="20200" y="25272"/>
                </a:lnTo>
                <a:lnTo>
                  <a:pt x="20200" y="1400"/>
                </a:lnTo>
                <a:close/>
              </a:path>
              <a:path fill="darkenLess" w="21600" h="26672">
                <a:moveTo>
                  <a:pt x="21600" y="26672"/>
                </a:moveTo>
                <a:lnTo>
                  <a:pt x="0" y="26672"/>
                </a:lnTo>
                <a:lnTo>
                  <a:pt x="1400" y="25272"/>
                </a:lnTo>
                <a:lnTo>
                  <a:pt x="20200" y="25272"/>
                </a:lnTo>
                <a:close/>
              </a:path>
              <a:path fill="lighten" w="21600" h="26672">
                <a:moveTo>
                  <a:pt x="0" y="266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272"/>
                </a:lnTo>
                <a:close/>
              </a:path>
              <a:path fill="darken" w="21600" h="26672">
                <a:moveTo>
                  <a:pt x="3794" y="6329"/>
                </a:moveTo>
                <a:lnTo>
                  <a:pt x="17806" y="13336"/>
                </a:lnTo>
                <a:lnTo>
                  <a:pt x="3794" y="2034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365720" y="5410080"/>
            <a:ext cx="143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Fahrstrasse A - 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365720" y="5665680"/>
            <a:ext cx="142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Fahrstrasse C - 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365720" y="5919840"/>
            <a:ext cx="142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Fahrstrasse B - 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flipH="1" flipV="1">
            <a:off x="423360" y="2590560"/>
            <a:ext cx="916200" cy="26028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 flipH="1" flipV="1">
            <a:off x="512280" y="2277720"/>
            <a:ext cx="916200" cy="26028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"/>
          <p:cNvGrpSpPr/>
          <p:nvPr/>
        </p:nvGrpSpPr>
        <p:grpSpPr>
          <a:xfrm>
            <a:off x="3397320" y="3095640"/>
            <a:ext cx="1702800" cy="171360"/>
            <a:chOff x="3397320" y="3095640"/>
            <a:chExt cx="1702800" cy="171360"/>
          </a:xfrm>
        </p:grpSpPr>
        <p:sp>
          <p:nvSpPr>
            <p:cNvPr id="896" name=""/>
            <p:cNvSpPr/>
            <p:nvPr/>
          </p:nvSpPr>
          <p:spPr>
            <a:xfrm flipH="1">
              <a:off x="3397320" y="3095640"/>
              <a:ext cx="111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H="1">
              <a:off x="5010120" y="3267000"/>
              <a:ext cx="90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" name=""/>
          <p:cNvGrpSpPr/>
          <p:nvPr/>
        </p:nvGrpSpPr>
        <p:grpSpPr>
          <a:xfrm>
            <a:off x="3295440" y="3069720"/>
            <a:ext cx="99720" cy="87480"/>
            <a:chOff x="3295440" y="3069720"/>
            <a:chExt cx="99720" cy="87480"/>
          </a:xfrm>
        </p:grpSpPr>
        <p:sp>
          <p:nvSpPr>
            <p:cNvPr id="899" name=""/>
            <p:cNvSpPr/>
            <p:nvPr/>
          </p:nvSpPr>
          <p:spPr>
            <a:xfrm flipH="1" flipV="1">
              <a:off x="3348000" y="3069720"/>
              <a:ext cx="720" cy="87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3319560" y="3094560"/>
              <a:ext cx="6084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3295440" y="3120120"/>
              <a:ext cx="9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2" name=""/>
          <p:cNvGrpSpPr/>
          <p:nvPr/>
        </p:nvGrpSpPr>
        <p:grpSpPr>
          <a:xfrm>
            <a:off x="3297240" y="3406320"/>
            <a:ext cx="100080" cy="87480"/>
            <a:chOff x="3297240" y="3406320"/>
            <a:chExt cx="100080" cy="87480"/>
          </a:xfrm>
        </p:grpSpPr>
        <p:sp>
          <p:nvSpPr>
            <p:cNvPr id="903" name=""/>
            <p:cNvSpPr/>
            <p:nvPr/>
          </p:nvSpPr>
          <p:spPr>
            <a:xfrm flipH="1" flipV="1">
              <a:off x="3350160" y="3406320"/>
              <a:ext cx="720" cy="87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3321720" y="3431160"/>
              <a:ext cx="6120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H="1">
              <a:off x="3297240" y="3456720"/>
              <a:ext cx="1000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6" name=""/>
          <p:cNvSpPr/>
          <p:nvPr/>
        </p:nvSpPr>
        <p:spPr>
          <a:xfrm flipV="1">
            <a:off x="1545840" y="2583720"/>
            <a:ext cx="57600" cy="18180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H="1" flipV="1">
            <a:off x="1434960" y="2599920"/>
            <a:ext cx="131400" cy="4176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H="1" flipV="1">
            <a:off x="3363480" y="3074760"/>
            <a:ext cx="1047960" cy="8244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 flipH="1" flipV="1">
            <a:off x="1415880" y="2534760"/>
            <a:ext cx="1944720" cy="53820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062680" y="3157560"/>
            <a:ext cx="0" cy="10620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241280" y="3497400"/>
            <a:ext cx="3970440" cy="14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062680" y="3294000"/>
            <a:ext cx="0" cy="20484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5078520" y="3435480"/>
            <a:ext cx="253800" cy="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 flipH="1">
            <a:off x="1239840" y="3448080"/>
            <a:ext cx="138240" cy="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1397160" y="3395520"/>
            <a:ext cx="0" cy="10332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 flipH="1" flipV="1">
            <a:off x="2373120" y="3178080"/>
            <a:ext cx="137880" cy="648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 flipH="1" flipV="1">
            <a:off x="2433240" y="3141360"/>
            <a:ext cx="82440" cy="468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H="1" flipV="1">
            <a:off x="1234800" y="3149640"/>
            <a:ext cx="988920" cy="144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511360" y="3151080"/>
            <a:ext cx="816120" cy="180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509920" y="3186000"/>
            <a:ext cx="830160" cy="22536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 flipH="1">
            <a:off x="2211120" y="3181320"/>
            <a:ext cx="176040" cy="144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H="1" flipV="1">
            <a:off x="2250720" y="3083040"/>
            <a:ext cx="189000" cy="5688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V="1">
            <a:off x="1397160" y="3158640"/>
            <a:ext cx="0" cy="19692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H="1">
            <a:off x="1238040" y="3222720"/>
            <a:ext cx="137880" cy="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flipH="1" flipV="1">
            <a:off x="1371240" y="2790000"/>
            <a:ext cx="124560" cy="3960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 flipH="1" flipV="1">
            <a:off x="1321920" y="2847600"/>
            <a:ext cx="917640" cy="26028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1501560" y="2788560"/>
            <a:ext cx="32400" cy="10296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359160" y="3416400"/>
            <a:ext cx="946080" cy="3816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348000" y="3149640"/>
            <a:ext cx="971640" cy="468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"/>
          <p:cNvGrpSpPr/>
          <p:nvPr/>
        </p:nvGrpSpPr>
        <p:grpSpPr>
          <a:xfrm>
            <a:off x="4168440" y="3654360"/>
            <a:ext cx="285840" cy="76320"/>
            <a:chOff x="4168440" y="3654360"/>
            <a:chExt cx="285840" cy="76320"/>
          </a:xfrm>
        </p:grpSpPr>
        <p:sp>
          <p:nvSpPr>
            <p:cNvPr id="931" name=""/>
            <p:cNvSpPr/>
            <p:nvPr/>
          </p:nvSpPr>
          <p:spPr>
            <a:xfrm>
              <a:off x="4277160" y="3654360"/>
              <a:ext cx="177120" cy="76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H="1">
              <a:off x="4168440" y="3696480"/>
              <a:ext cx="108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3" name=""/>
          <p:cNvGrpSpPr/>
          <p:nvPr/>
        </p:nvGrpSpPr>
        <p:grpSpPr>
          <a:xfrm>
            <a:off x="1185840" y="2496240"/>
            <a:ext cx="243000" cy="311040"/>
            <a:chOff x="1185840" y="2496240"/>
            <a:chExt cx="243000" cy="311040"/>
          </a:xfrm>
        </p:grpSpPr>
        <p:sp>
          <p:nvSpPr>
            <p:cNvPr id="934" name=""/>
            <p:cNvSpPr/>
            <p:nvPr/>
          </p:nvSpPr>
          <p:spPr>
            <a:xfrm flipH="1" flipV="1">
              <a:off x="1297800" y="2563200"/>
              <a:ext cx="131040" cy="4176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V="1">
              <a:off x="1233000" y="2496240"/>
              <a:ext cx="57600" cy="181800"/>
            </a:xfrm>
            <a:prstGeom prst="line">
              <a:avLst/>
            </a:prstGeom>
            <a:ln w="7632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 flipV="1">
              <a:off x="1185840" y="2704320"/>
              <a:ext cx="32400" cy="102960"/>
            </a:xfrm>
            <a:prstGeom prst="line">
              <a:avLst/>
            </a:prstGeom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 flipV="1">
              <a:off x="1222200" y="2747520"/>
              <a:ext cx="131040" cy="4176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8" name=""/>
          <p:cNvSpPr/>
          <p:nvPr/>
        </p:nvSpPr>
        <p:spPr>
          <a:xfrm flipH="1" rot="11757600">
            <a:off x="479160" y="2266560"/>
            <a:ext cx="102960" cy="745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flipH="1" flipV="1" rot="5400000">
            <a:off x="5672160" y="3808440"/>
            <a:ext cx="38160" cy="41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H="1" flipV="1" rot="5400000">
            <a:off x="5760720" y="3730680"/>
            <a:ext cx="36360" cy="41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H="1" flipV="1" rot="5400000">
            <a:off x="5759640" y="3877920"/>
            <a:ext cx="38160" cy="41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H="1">
            <a:off x="5700240" y="3761640"/>
            <a:ext cx="73080" cy="79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 flipH="1" flipV="1" rot="5400000">
            <a:off x="5628600" y="4026600"/>
            <a:ext cx="196560" cy="13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H="1" flipV="1">
            <a:off x="5660640" y="4057200"/>
            <a:ext cx="13500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959440" y="2771640"/>
            <a:ext cx="0" cy="9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959440" y="3587760"/>
            <a:ext cx="0" cy="1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727600" y="3797280"/>
            <a:ext cx="0" cy="20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flipH="1" flipV="1">
            <a:off x="5520960" y="2647800"/>
            <a:ext cx="438120" cy="12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flipH="1" flipV="1" rot="5400000">
            <a:off x="1701720" y="3808440"/>
            <a:ext cx="38160" cy="41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flipH="1" flipV="1" rot="5400000">
            <a:off x="1792080" y="3730680"/>
            <a:ext cx="36360" cy="41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flipH="1" flipV="1" rot="5400000">
            <a:off x="1791000" y="3877920"/>
            <a:ext cx="38160" cy="41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flipH="1">
            <a:off x="1731960" y="3761640"/>
            <a:ext cx="71280" cy="79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flipH="1" flipV="1" rot="5400000">
            <a:off x="1659960" y="4026600"/>
            <a:ext cx="196560" cy="13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flipH="1" flipV="1">
            <a:off x="1692000" y="4057200"/>
            <a:ext cx="13500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989000" y="2771640"/>
            <a:ext cx="0" cy="9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989000" y="3587760"/>
            <a:ext cx="0" cy="116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1757520" y="3797280"/>
            <a:ext cx="0" cy="20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H="1" flipV="1">
            <a:off x="1550520" y="2647800"/>
            <a:ext cx="438120" cy="12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5773680" y="3762360"/>
            <a:ext cx="185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5959440" y="376236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H="1">
            <a:off x="1988640" y="4524480"/>
            <a:ext cx="397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827360" y="3754440"/>
            <a:ext cx="16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819440" y="3902040"/>
            <a:ext cx="10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927080" y="3902040"/>
            <a:ext cx="0" cy="74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5800680" y="3902040"/>
            <a:ext cx="7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5875200" y="3902040"/>
            <a:ext cx="0" cy="74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flipH="1">
            <a:off x="1926720" y="4643280"/>
            <a:ext cx="39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8" name=""/>
          <p:cNvGrpSpPr/>
          <p:nvPr/>
        </p:nvGrpSpPr>
        <p:grpSpPr>
          <a:xfrm>
            <a:off x="1939320" y="4645080"/>
            <a:ext cx="1662840" cy="560880"/>
            <a:chOff x="1939320" y="4645080"/>
            <a:chExt cx="1662840" cy="560880"/>
          </a:xfrm>
        </p:grpSpPr>
        <p:sp>
          <p:nvSpPr>
            <p:cNvPr id="969" name=""/>
            <p:cNvSpPr/>
            <p:nvPr/>
          </p:nvSpPr>
          <p:spPr>
            <a:xfrm>
              <a:off x="1939320" y="4898880"/>
              <a:ext cx="142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Zu Rückmeldu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1989360" y="4753080"/>
              <a:ext cx="4143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187800" y="4645080"/>
              <a:ext cx="4143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2" name=""/>
          <p:cNvSpPr/>
          <p:nvPr/>
        </p:nvSpPr>
        <p:spPr>
          <a:xfrm flipH="1">
            <a:off x="3772080" y="4753080"/>
            <a:ext cx="63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 flipH="1" rot="11757600">
            <a:off x="4408920" y="2274480"/>
            <a:ext cx="103320" cy="745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flipH="1">
            <a:off x="6500520" y="3610080"/>
            <a:ext cx="115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Fahrtrich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 flipH="1">
            <a:off x="6478560" y="3914640"/>
            <a:ext cx="1106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6" name=""/>
          <p:cNvGrpSpPr/>
          <p:nvPr/>
        </p:nvGrpSpPr>
        <p:grpSpPr>
          <a:xfrm>
            <a:off x="1574280" y="3184560"/>
            <a:ext cx="711720" cy="638280"/>
            <a:chOff x="1574280" y="3184560"/>
            <a:chExt cx="711720" cy="638280"/>
          </a:xfrm>
        </p:grpSpPr>
        <p:sp>
          <p:nvSpPr>
            <p:cNvPr id="977" name=""/>
            <p:cNvSpPr/>
            <p:nvPr/>
          </p:nvSpPr>
          <p:spPr>
            <a:xfrm flipH="1">
              <a:off x="1574280" y="3822840"/>
              <a:ext cx="11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 flipV="1">
              <a:off x="1574640" y="3355560"/>
              <a:ext cx="0" cy="46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574640" y="3355920"/>
              <a:ext cx="71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 flipV="1">
              <a:off x="2286000" y="3184560"/>
              <a:ext cx="0" cy="17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1" name=""/>
          <p:cNvGrpSpPr/>
          <p:nvPr/>
        </p:nvGrpSpPr>
        <p:grpSpPr>
          <a:xfrm>
            <a:off x="5544720" y="3186000"/>
            <a:ext cx="711720" cy="638280"/>
            <a:chOff x="5544720" y="3186000"/>
            <a:chExt cx="711720" cy="638280"/>
          </a:xfrm>
        </p:grpSpPr>
        <p:sp>
          <p:nvSpPr>
            <p:cNvPr id="982" name=""/>
            <p:cNvSpPr/>
            <p:nvPr/>
          </p:nvSpPr>
          <p:spPr>
            <a:xfrm flipH="1">
              <a:off x="5544720" y="3824280"/>
              <a:ext cx="11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V="1">
              <a:off x="5545080" y="3357000"/>
              <a:ext cx="0" cy="46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545080" y="3357360"/>
              <a:ext cx="71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 flipV="1">
              <a:off x="6256440" y="3186000"/>
              <a:ext cx="0" cy="17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6" name=""/>
          <p:cNvSpPr/>
          <p:nvPr/>
        </p:nvSpPr>
        <p:spPr>
          <a:xfrm>
            <a:off x="533520" y="2209680"/>
            <a:ext cx="942840" cy="276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rot="969600">
            <a:off x="419400" y="204444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Profil mitneh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8T11:48:47Z</dcterms:created>
  <dc:creator>Default</dc:creator>
  <dc:description/>
  <dc:language>en-US</dc:language>
  <cp:lastModifiedBy>Default</cp:lastModifiedBy>
  <cp:lastPrinted>2001-04-26T09:06:26Z</cp:lastPrinted>
  <dcterms:modified xsi:type="dcterms:W3CDTF">2002-02-26T08:26:59Z</dcterms:modified>
  <cp:revision>112</cp:revision>
  <dc:subject/>
  <dc:title>No Slide Title</dc:title>
</cp:coreProperties>
</file>