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5662613" cy="8797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AFC-EE9E-4D4B-ACB4-05F70D3B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0AA-CA71-4AAC-8A78-9764B14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CCB-41D4-452C-A0EB-3D050BF9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9B2-C4DE-445A-8430-FB343CF8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B50-1812-4E18-924F-F1A5426C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EC4-D3A2-4152-BB01-AF4720AC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15D-B839-415A-8B46-9632C476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D76-4EE8-4964-90B9-5B84CFAA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BED-F18B-44CD-9F78-FDF8803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66B-CB3E-4B04-B1A0-FDD2E07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489-4E71-4494-876F-EB0A33AD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C36-87BA-4AC6-99C1-10D03D7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8830-A0E0-40A0-9246-77791506263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30840" y="2743200"/>
            <a:ext cx="431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829040" y="2630160"/>
            <a:ext cx="434880" cy="114120"/>
            <a:chOff x="4829040" y="2630160"/>
            <a:chExt cx="434880" cy="114120"/>
          </a:xfrm>
        </p:grpSpPr>
        <p:sp>
          <p:nvSpPr>
            <p:cNvPr id="43" name=""/>
            <p:cNvSpPr/>
            <p:nvPr/>
          </p:nvSpPr>
          <p:spPr>
            <a:xfrm flipH="1" flipV="1">
              <a:off x="4829040" y="2630160"/>
              <a:ext cx="43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4829040" y="26301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 flipH="1" flipV="1">
            <a:off x="5008680" y="2625480"/>
            <a:ext cx="412560" cy="114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8840" y="3195720"/>
            <a:ext cx="762012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64200" y="2990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64080" y="2535120"/>
            <a:ext cx="263520" cy="92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1951400">
            <a:off x="4503240" y="2541240"/>
            <a:ext cx="88920" cy="7920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505400" y="2568600"/>
            <a:ext cx="1620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28638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30840" y="2743200"/>
            <a:ext cx="431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829040" y="2630160"/>
            <a:ext cx="434880" cy="114120"/>
            <a:chOff x="4829040" y="2630160"/>
            <a:chExt cx="434880" cy="114120"/>
          </a:xfrm>
        </p:grpSpPr>
        <p:sp>
          <p:nvSpPr>
            <p:cNvPr id="54" name=""/>
            <p:cNvSpPr/>
            <p:nvPr/>
          </p:nvSpPr>
          <p:spPr>
            <a:xfrm flipH="1" flipV="1">
              <a:off x="4829040" y="2630160"/>
              <a:ext cx="43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829040" y="26301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12880" y="3195720"/>
            <a:ext cx="769608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017680" y="2811600"/>
            <a:ext cx="412920" cy="28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25920" y="2808360"/>
            <a:ext cx="663840" cy="212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2360" y="3025800"/>
            <a:ext cx="1273320" cy="16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64200" y="2990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41120" y="2463840"/>
            <a:ext cx="2529360" cy="246240"/>
            <a:chOff x="1941120" y="2463840"/>
            <a:chExt cx="2529360" cy="246240"/>
          </a:xfrm>
        </p:grpSpPr>
        <p:sp>
          <p:nvSpPr>
            <p:cNvPr id="62" name=""/>
            <p:cNvSpPr/>
            <p:nvPr/>
          </p:nvSpPr>
          <p:spPr>
            <a:xfrm>
              <a:off x="1941120" y="2463840"/>
              <a:ext cx="22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Trennstelle, isolierte Schienenverbi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76640" y="2557440"/>
              <a:ext cx="393840" cy="76320"/>
            </a:xfrm>
            <a:prstGeom prst="rightArrow">
              <a:avLst>
                <a:gd name="adj1" fmla="val 50000"/>
                <a:gd name="adj2" fmla="val 129009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flipH="1">
            <a:off x="4561560" y="2083680"/>
            <a:ext cx="12888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293720" y="3079800"/>
            <a:ext cx="1643760" cy="382680"/>
            <a:chOff x="4293720" y="3079800"/>
            <a:chExt cx="1643760" cy="382680"/>
          </a:xfrm>
        </p:grpSpPr>
        <p:sp>
          <p:nvSpPr>
            <p:cNvPr id="66" name=""/>
            <p:cNvSpPr/>
            <p:nvPr/>
          </p:nvSpPr>
          <p:spPr>
            <a:xfrm>
              <a:off x="4424040" y="3079800"/>
              <a:ext cx="74880" cy="2001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93720" y="3216240"/>
              <a:ext cx="16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feste elektrische Verbind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412040" y="3200040"/>
            <a:ext cx="1083600" cy="246600"/>
            <a:chOff x="7412040" y="3200040"/>
            <a:chExt cx="1083600" cy="246600"/>
          </a:xfrm>
        </p:grpSpPr>
        <p:sp>
          <p:nvSpPr>
            <p:cNvPr id="69" name=""/>
            <p:cNvSpPr/>
            <p:nvPr/>
          </p:nvSpPr>
          <p:spPr>
            <a:xfrm flipV="1">
              <a:off x="7412040" y="3199680"/>
              <a:ext cx="74160" cy="199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12760" y="320040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An Rückmeld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68960" y="41580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lektrischer Aufbau der Märklin Weiche 22715 (oder 227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4560" y="3532320"/>
            <a:ext cx="128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Joan Drenth 11 März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470480" y="1908000"/>
            <a:ext cx="1893240" cy="246240"/>
            <a:chOff x="4470480" y="1908000"/>
            <a:chExt cx="1893240" cy="246240"/>
          </a:xfrm>
        </p:grpSpPr>
        <p:sp>
          <p:nvSpPr>
            <p:cNvPr id="74" name=""/>
            <p:cNvSpPr/>
            <p:nvPr/>
          </p:nvSpPr>
          <p:spPr>
            <a:xfrm rot="327000">
              <a:off x="4471920" y="1971720"/>
              <a:ext cx="976320" cy="74520"/>
            </a:xfrm>
            <a:prstGeom prst="leftArrow">
              <a:avLst>
                <a:gd name="adj1" fmla="val 50000"/>
                <a:gd name="adj2" fmla="val 327536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0440" y="1908000"/>
              <a:ext cx="95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stromloser Te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 flipV="1">
            <a:off x="4028760" y="1893600"/>
            <a:ext cx="431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027320" y="1896120"/>
            <a:ext cx="434880" cy="114120"/>
            <a:chOff x="4027320" y="1896120"/>
            <a:chExt cx="434880" cy="114120"/>
          </a:xfrm>
        </p:grpSpPr>
        <p:sp>
          <p:nvSpPr>
            <p:cNvPr id="78" name=""/>
            <p:cNvSpPr/>
            <p:nvPr/>
          </p:nvSpPr>
          <p:spPr>
            <a:xfrm>
              <a:off x="4027320" y="1897560"/>
              <a:ext cx="43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62200" y="18961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870360" y="1900080"/>
            <a:ext cx="412560" cy="1144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82280" y="1441080"/>
            <a:ext cx="762012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151080" y="157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464000" y="2012760"/>
            <a:ext cx="263520" cy="9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151400">
            <a:off x="4698720" y="2019240"/>
            <a:ext cx="88920" cy="7956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623840" y="1775880"/>
            <a:ext cx="16164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86200" y="14428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028760" y="1893600"/>
            <a:ext cx="431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027320" y="1896120"/>
            <a:ext cx="434880" cy="114120"/>
            <a:chOff x="4027320" y="1896120"/>
            <a:chExt cx="434880" cy="114120"/>
          </a:xfrm>
        </p:grpSpPr>
        <p:sp>
          <p:nvSpPr>
            <p:cNvPr id="89" name=""/>
            <p:cNvSpPr/>
            <p:nvPr/>
          </p:nvSpPr>
          <p:spPr>
            <a:xfrm>
              <a:off x="4027320" y="1897560"/>
              <a:ext cx="43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62200" y="18961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 flipV="1">
            <a:off x="782640" y="1441080"/>
            <a:ext cx="769608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59920" y="1825200"/>
            <a:ext cx="41292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3201840" y="1618920"/>
            <a:ext cx="663840" cy="212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916280" y="1452600"/>
            <a:ext cx="1272960" cy="16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151080" y="157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03160" y="1827360"/>
            <a:ext cx="7685280" cy="985680"/>
            <a:chOff x="803160" y="1827360"/>
            <a:chExt cx="7685280" cy="985680"/>
          </a:xfrm>
        </p:grpSpPr>
        <p:sp>
          <p:nvSpPr>
            <p:cNvPr id="97" name=""/>
            <p:cNvSpPr/>
            <p:nvPr/>
          </p:nvSpPr>
          <p:spPr>
            <a:xfrm flipV="1">
              <a:off x="7024680" y="2739600"/>
              <a:ext cx="1463760" cy="3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12880" y="2741760"/>
              <a:ext cx="4013280" cy="28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704840" y="2107800"/>
              <a:ext cx="2318040" cy="6318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440" y="2739960"/>
              <a:ext cx="1298520" cy="730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008680" y="2625480"/>
              <a:ext cx="412560" cy="1141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415120" y="2739600"/>
              <a:ext cx="685800" cy="3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3160" y="1897200"/>
              <a:ext cx="1463760" cy="28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65080" y="1895040"/>
              <a:ext cx="4012920" cy="3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7640" y="1900080"/>
              <a:ext cx="2318040" cy="63216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1898280" y="1827360"/>
              <a:ext cx="1298520" cy="727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0360" y="1900080"/>
              <a:ext cx="412560" cy="1144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190680" y="1897200"/>
              <a:ext cx="685800" cy="28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0800000">
            <a:off x="3151080" y="1861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35080" y="1157400"/>
            <a:ext cx="1092960" cy="285480"/>
            <a:chOff x="1135080" y="1157400"/>
            <a:chExt cx="1092960" cy="285480"/>
          </a:xfrm>
        </p:grpSpPr>
        <p:sp>
          <p:nvSpPr>
            <p:cNvPr id="111" name=""/>
            <p:cNvSpPr/>
            <p:nvPr/>
          </p:nvSpPr>
          <p:spPr>
            <a:xfrm>
              <a:off x="1135080" y="1243080"/>
              <a:ext cx="74520" cy="1998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5160" y="115740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An Rückmeld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64200" y="270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1:48:47Z</dcterms:created>
  <dc:creator>Default</dc:creator>
  <dc:description/>
  <dc:language>en-US</dc:language>
  <cp:lastModifiedBy>Default</cp:lastModifiedBy>
  <cp:lastPrinted>2001-01-29T10:57:59Z</cp:lastPrinted>
  <dcterms:modified xsi:type="dcterms:W3CDTF">2002-06-02T13:07:55Z</dcterms:modified>
  <cp:revision>19</cp:revision>
  <dc:subject/>
  <dc:title>No Slide Title</dc:title>
</cp:coreProperties>
</file>